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0EF-6990-4730-89A0-1BAD649A8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9BFB-AD5A-4BB8-AE54-4B66FE7C6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7E82-5D21-4171-B7C1-1650B7F48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2823-A445-48AA-BD33-2BCBC3584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C146-D19B-42D1-B7D5-2B46DA700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212-8306-4E49-B029-DFABD75FE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CC63-379D-44B4-BC38-F6D378B4C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2BE-F4C9-4C2B-A2D8-A59FD469C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06F-4C90-4A93-B1FA-2919AC452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BF0-B212-4B64-B69F-B06EED4B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8AD1-0962-4423-9388-AE4C8E3A2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F09-B9C2-48A2-800F-360FFD7BB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A56-A1CB-4B36-B4F5-E43C94629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FE64-14AE-4C1D-9729-6FB99E440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35B-5E64-49EE-B2C6-F766E791A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CECD-EEDD-483A-BB63-428EAF1F7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1B06-3EDA-45F6-B888-05CFB801B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7AC-3100-457C-B710-2C0E4EE24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71C6-7E23-45DD-9A24-43FA3F7A5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6FFF-F1C6-4625-A539-4FF4FE838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F9EF-E769-4F86-B068-DF238EEA0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BA6-E5D5-4B83-9EB7-0464DEB2A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6BD2-E8F6-4C0D-90B0-BFE15C3E3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88E-D261-4354-9063-8199A4C80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524-D55E-4A00-B551-773A8EDAB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B5B-0354-41FC-BF6E-AA1196158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6919-2793-4E0F-9221-B895F1EB7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FEB-EAE0-477C-B890-CDF979CF7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C066-1216-4F45-9483-CB82E2ACC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E4F4-4734-4B52-BBA3-D13E8C717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E6B-ED16-4840-8C12-3F9D33E84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40D-5286-488F-B12E-75B72D585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9A44-8DC2-44E4-8E9E-7102528ED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24E-7E76-4AE2-87A2-BE45BBB39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267-C8D5-4EAF-B0AC-1A1DA9ED2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224-A387-4321-A877-4BB81AA80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42B-6405-4379-8050-75B642AA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871C-0FCF-4C39-B706-96C162A95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B49-AB55-499E-A9FC-FDABAFD35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9294-4E6D-4496-A0AE-5AAD7D5D7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BCD-64EC-49B0-BA1F-0B1B4A240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0BC1-CE48-49C7-B446-285279460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FACE-EC24-43EB-B64E-A9658ADBE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BAA-2C6F-4422-AD75-8A87E99C5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D9DF-8636-4EBB-B01A-00EB3D779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6A63-F197-4E2E-A6B3-769C6207F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CD97-A049-4B01-AB57-37BC679C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242-186E-4F15-8D9E-5998BB7A3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B1A-7AD7-41C8-A5A1-3E6C5928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6AF-7E77-461F-9C6C-56103BF5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0A1-C4FA-4C83-8390-E0303D83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323-37DE-4CEE-BF9B-309C282B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F7A-0122-4D87-9DDC-49C194A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714-9DA0-4224-B132-E1F04B9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C18-8339-4105-B42D-A885539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CBB-45F9-46B3-99C6-706AB592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A06-EEA9-4DDA-925F-4448807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C7B-3A30-4993-A815-8CA9FE0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B62-B96A-460A-A65B-D6CCCDF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31-A6A6-4CDA-9E77-BC124E4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53B-D251-4EB2-ACB4-55D1ED813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2_03TreeWaterFlow_2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2_UN660NitrogenUptake_L.jpg"/>
          <p:cNvPicPr/>
          <p:nvPr/>
        </p:nvPicPr>
        <p:blipFill>
          <a:blip r:embed="rId1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2_UN661TranspirationRate_T.jpg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2_UN660NutrientTransport_L.jpg"/>
          <p:cNvPicPr/>
          <p:nvPr/>
        </p:nvPicPr>
        <p:blipFill>
          <a:blip r:embed="rId1"/>
          <a:stretch/>
        </p:blipFill>
        <p:spPr>
          <a:xfrm>
            <a:off x="762120" y="1004760"/>
            <a:ext cx="7619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4_06aSolarRadLatitude_L.jpg"/>
          <p:cNvPicPr/>
          <p:nvPr/>
        </p:nvPicPr>
        <p:blipFill>
          <a:blip r:embed="rId1"/>
          <a:stretch/>
        </p:blipFill>
        <p:spPr>
          <a:xfrm>
            <a:off x="800280" y="590400"/>
            <a:ext cx="75438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34_06bTiltAndSeason_L.jpg"/>
          <p:cNvPicPr/>
          <p:nvPr/>
        </p:nvPicPr>
        <p:blipFill>
          <a:blip r:embed="rId1"/>
          <a:stretch/>
        </p:blipFill>
        <p:spPr>
          <a:xfrm>
            <a:off x="790560" y="57168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4_06cWindRainCause_L.jpg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4_06dPrevailingWind_L.jpg"/>
          <p:cNvPicPr/>
          <p:nvPr/>
        </p:nvPicPr>
        <p:blipFill>
          <a:blip r:embed="rId1"/>
          <a:stretch/>
        </p:blipFill>
        <p:spPr>
          <a:xfrm>
            <a:off x="1623960" y="571680"/>
            <a:ext cx="589608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13960" y="54468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ailing w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4_06eSoCalSumTemps_L.jpg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34_06fMountainAndRainfall_L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4_06fMountainAndRainfall_U.jpg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32_03TreeWaterFlow_3_L.jpg"/>
          <p:cNvPicPr/>
          <p:nvPr/>
        </p:nvPicPr>
        <p:blipFill>
          <a:blip r:embed="rId1"/>
          <a:stretch/>
        </p:blipFill>
        <p:spPr>
          <a:xfrm>
            <a:off x="1566720" y="571680"/>
            <a:ext cx="601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34_07bOceanicZones_L.jpg"/>
          <p:cNvPicPr/>
          <p:nvPr/>
        </p:nvPicPr>
        <p:blipFill>
          <a:blip r:embed="rId1"/>
          <a:stretch/>
        </p:blipFill>
        <p:spPr>
          <a:xfrm>
            <a:off x="1357200" y="571680"/>
            <a:ext cx="64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34_09TerrestrialBiomesMap_L.jpg"/>
          <p:cNvPicPr/>
          <p:nvPr/>
        </p:nvPicPr>
        <p:blipFill>
          <a:blip r:embed="rId1"/>
          <a:stretch/>
        </p:blipFill>
        <p:spPr>
          <a:xfrm>
            <a:off x="762120" y="1257480"/>
            <a:ext cx="761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34_10TropicalRainForest_CNL.jpg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880920" y="6171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Rain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4_12Desert_CNL.jpg"/>
          <p:cNvPicPr/>
          <p:nvPr/>
        </p:nvPicPr>
        <p:blipFill>
          <a:blip r:embed="rId1"/>
          <a:stretch/>
        </p:blipFill>
        <p:spPr>
          <a:xfrm>
            <a:off x="762120" y="1457280"/>
            <a:ext cx="7619760" cy="3943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4075560" y="685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4_13Chaparral_CNL.jpg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488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124640" y="35805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ar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4_14TemperateGrassland_CNL.jpg"/>
          <p:cNvPicPr/>
          <p:nvPr/>
        </p:nvPicPr>
        <p:blipFill>
          <a:blip r:embed="rId1"/>
          <a:stretch/>
        </p:blipFill>
        <p:spPr>
          <a:xfrm>
            <a:off x="762120" y="1562040"/>
            <a:ext cx="761976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165120" y="1142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Grass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4_11Savanna_CNL.jpg"/>
          <p:cNvPicPr/>
          <p:nvPr/>
        </p:nvPicPr>
        <p:blipFill>
          <a:blip r:embed="rId1"/>
          <a:stretch/>
        </p:blipFill>
        <p:spPr>
          <a:xfrm>
            <a:off x="762120" y="20336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32080" y="49896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vann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34_15TemperateForest_CNL.jpg"/>
          <p:cNvPicPr/>
          <p:nvPr/>
        </p:nvPicPr>
        <p:blipFill>
          <a:blip r:embed="rId1"/>
          <a:stretch/>
        </p:blipFill>
        <p:spPr>
          <a:xfrm>
            <a:off x="762120" y="105732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62200" y="6019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e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26040" y="57906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iferous Fo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34_16ConiferousForest_CNL.jpg"/>
          <p:cNvPicPr/>
          <p:nvPr/>
        </p:nvPicPr>
        <p:blipFill>
          <a:blip r:embed="rId1"/>
          <a:stretch/>
        </p:blipFill>
        <p:spPr>
          <a:xfrm>
            <a:off x="1295280" y="1905120"/>
            <a:ext cx="7620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4_17Tundra_CNL.jpg"/>
          <p:cNvPicPr/>
          <p:nvPr/>
        </p:nvPicPr>
        <p:blipFill>
          <a:blip r:embed="rId1"/>
          <a:stretch/>
        </p:blipFill>
        <p:spPr>
          <a:xfrm>
            <a:off x="762120" y="1495440"/>
            <a:ext cx="7619760" cy="38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242000" y="5675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d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2_04GuardCellsStomata_L.jpg"/>
          <p:cNvPicPr/>
          <p:nvPr/>
        </p:nvPicPr>
        <p:blipFill>
          <a:blip r:embed="rId1"/>
          <a:stretch/>
        </p:blipFill>
        <p:spPr>
          <a:xfrm>
            <a:off x="762120" y="2090880"/>
            <a:ext cx="7619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34_UN700SolarRadiation_L.jpg"/>
          <p:cNvPicPr/>
          <p:nvPr/>
        </p:nvPicPr>
        <p:blipFill>
          <a:blip r:embed="rId1"/>
          <a:stretch/>
        </p:blipFill>
        <p:spPr>
          <a:xfrm>
            <a:off x="1752480" y="590400"/>
            <a:ext cx="5639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34_UN700EarthsOrbit_U.jpg"/>
          <p:cNvPicPr/>
          <p:nvPr/>
        </p:nvPicPr>
        <p:blipFill>
          <a:blip r:embed="rId1"/>
          <a:stretch/>
        </p:blipFill>
        <p:spPr>
          <a:xfrm>
            <a:off x="852480" y="581040"/>
            <a:ext cx="7439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7_02aCompetExclusion_CL.jpg"/>
          <p:cNvPicPr/>
          <p:nvPr/>
        </p:nvPicPr>
        <p:blipFill>
          <a:blip r:embed="rId1"/>
          <a:stretch/>
        </p:blipFill>
        <p:spPr>
          <a:xfrm>
            <a:off x="762120" y="1514520"/>
            <a:ext cx="7619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37_02bResourcePartition_CL.jpg"/>
          <p:cNvPicPr/>
          <p:nvPr/>
        </p:nvPicPr>
        <p:blipFill>
          <a:blip r:embed="rId1"/>
          <a:stretch/>
        </p:blipFill>
        <p:spPr>
          <a:xfrm>
            <a:off x="762120" y="1486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37_09FoodChains_L.jpg"/>
          <p:cNvPicPr/>
          <p:nvPr/>
        </p:nvPicPr>
        <p:blipFill>
          <a:blip r:embed="rId1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7_10FoodWeb_L.jpg"/>
          <p:cNvPicPr/>
          <p:nvPr/>
        </p:nvPicPr>
        <p:blipFill>
          <a:blip r:embed="rId1"/>
          <a:stretch/>
        </p:blipFill>
        <p:spPr>
          <a:xfrm>
            <a:off x="2147760" y="571680"/>
            <a:ext cx="484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7_11TerrariumEcosystem_L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7_12EcosystemNPP_L.jpg"/>
          <p:cNvPicPr/>
          <p:nvPr/>
        </p:nvPicPr>
        <p:blipFill>
          <a:blip r:embed="rId1"/>
          <a:stretch/>
        </p:blipFill>
        <p:spPr>
          <a:xfrm>
            <a:off x="762120" y="72396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37_13ProductionPyramid_L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37_14EatMeatLuxury_L.jpg"/>
          <p:cNvPicPr/>
          <p:nvPr/>
        </p:nvPicPr>
        <p:blipFill>
          <a:blip r:embed="rId1"/>
          <a:stretch/>
        </p:blipFill>
        <p:spPr>
          <a:xfrm>
            <a:off x="762120" y="1738440"/>
            <a:ext cx="76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2_05bPressFlowSourceSink_U.jpg"/>
          <p:cNvPicPr/>
          <p:nvPr/>
        </p:nvPicPr>
        <p:blipFill>
          <a:blip r:embed="rId1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37_15NutrientCycling_L.jpg"/>
          <p:cNvPicPr/>
          <p:nvPr/>
        </p:nvPicPr>
        <p:blipFill>
          <a:blip r:embed="rId1"/>
          <a:stretch/>
        </p:blipFill>
        <p:spPr>
          <a:xfrm>
            <a:off x="1471680" y="571680"/>
            <a:ext cx="62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7_16GlobalWater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7_17CarbonCycle_L.jpg"/>
          <p:cNvPicPr/>
          <p:nvPr/>
        </p:nvPicPr>
        <p:blipFill>
          <a:blip r:embed="rId1"/>
          <a:stretch/>
        </p:blipFill>
        <p:spPr>
          <a:xfrm>
            <a:off x="1600200" y="57168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_17CarbonCycle_U.jpg"/>
          <p:cNvPicPr/>
          <p:nvPr/>
        </p:nvPicPr>
        <p:blipFill>
          <a:blip r:embed="rId1"/>
          <a:stretch/>
        </p:blipFill>
        <p:spPr>
          <a:xfrm>
            <a:off x="1604880" y="571680"/>
            <a:ext cx="593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37_18NitrogenCycle_L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37_19PhosphorusCycle_L.jpg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_UN762EcosystemCycling_L.jpg"/>
          <p:cNvPicPr/>
          <p:nvPr/>
        </p:nvPicPr>
        <p:blipFill>
          <a:blip r:embed="rId1"/>
          <a:stretch/>
        </p:blipFill>
        <p:spPr>
          <a:xfrm>
            <a:off x="762120" y="129060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37_UN762ConceptMap_L.jpg"/>
          <p:cNvPicPr/>
          <p:nvPr/>
        </p:nvPicPr>
        <p:blipFill>
          <a:blip r:embed="rId1"/>
          <a:stretch/>
        </p:blipFill>
        <p:spPr>
          <a:xfrm>
            <a:off x="1595520" y="571680"/>
            <a:ext cx="5952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_05cAphidPhloemSap_CL.jp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2_06HydroponicCulture_L.jpg"/>
          <p:cNvPicPr/>
          <p:nvPr/>
        </p:nvPicPr>
        <p:blipFill>
          <a:blip r:embed="rId1"/>
          <a:stretch/>
        </p:blipFill>
        <p:spPr>
          <a:xfrm>
            <a:off x="2038320" y="571680"/>
            <a:ext cx="5067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32_08cCationExchange_L.jpg"/>
          <p:cNvPicPr/>
          <p:nvPr/>
        </p:nvPicPr>
        <p:blipFill>
          <a:blip r:embed="rId1"/>
          <a:stretch/>
        </p:blipFill>
        <p:spPr>
          <a:xfrm>
            <a:off x="1628640" y="571680"/>
            <a:ext cx="588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_13NitrogenFixation_L.jpg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_UN660ConceptMap_L.jpg"/>
          <p:cNvPicPr/>
          <p:nvPr/>
        </p:nvPicPr>
        <p:blipFill>
          <a:blip r:embed="rId1"/>
          <a:stretch/>
        </p:blipFill>
        <p:spPr>
          <a:xfrm>
            <a:off x="762120" y="695160"/>
            <a:ext cx="76197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7:19Z</dcterms:created>
  <dc:creator>Daniel Church</dc:creator>
  <dc:description/>
  <dc:language>en-US</dc:language>
  <cp:lastModifiedBy>Daniel Church</cp:lastModifiedBy>
  <dcterms:modified xsi:type="dcterms:W3CDTF">2008-07-24T18:17:39Z</dcterms:modified>
  <cp:revision>1</cp:revision>
  <dc:subject/>
  <dc:title>Slide 1</dc:title>
</cp:coreProperties>
</file>