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12BE-E411-4F4C-B83B-348CD3D9B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0A0F-9360-4F6C-9927-661F5A3C0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63E2-24C9-4927-9AAE-A472C7698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D446-44F0-414B-BD05-1AB13489D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D7A7-FDC4-4D24-B987-C39F8736D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7327-8A09-4CA1-9A32-25D8ECA3A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F773-554C-48AF-9D51-7D60B5C99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DF40-4F02-44F3-A0E7-839A12D58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7160-2DDC-4D20-B75F-0D28C28F2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0D86-0DB5-4A44-ACE0-5175042BA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FA89-6619-4D4B-983B-178A77DCD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BC9B-E85E-4BDA-960E-603624F0E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0531-7EEA-47D2-AF9D-86E1ABCDC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DD08-76E2-4676-AA0D-717F8391C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488E-53E0-438E-9E45-C92BCF60F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379A-2A4C-4701-89C5-848D4063F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84BA-6131-4E4B-9D88-C99B69F23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609E-2910-4376-96AF-7E4CC79B7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33C6-0945-4916-B0C5-B6C78EF49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FE65-0D34-4148-AAE7-482F4A53F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BEB3-E3BB-4F23-A4AA-C187B82C6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42D6-E7A3-4ED5-A86B-33F34F299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90B1-279C-4F73-A2C5-9C628A8E0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FA21-FCE0-4AC2-BB79-87BD311A8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241B-B201-4270-A5EE-F76D377F6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A9CD-14BE-4E0F-8101-7E339655B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5C5F-128D-4672-B592-5DAD030C7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CD28-DAF4-4767-8A7B-758C84A1D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E157-FEC2-461D-B8AF-A50B0B7A6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766D-C2EF-429B-B80F-C39824A84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8E9D-2D38-463A-A6C1-FF0E4624D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2A1C-ED7F-471A-913B-CF7D13FF1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9F73-7EF2-4414-8A02-2F5E0ECA9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23CF-6462-4DDC-B1A3-359CB4D7A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F0C2-4BE4-467C-BE62-C598C5B0A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186A-700F-4141-9CB1-04C0A73A5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9C66-B57D-4C1C-9EE5-111749994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0862-5480-4A49-BC9F-47915CFDB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030C-963A-49B0-A01B-B3A82AD31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CCF9-3554-46FD-86AE-84152B04B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CA41-9F73-4C6E-BB34-73AA34B12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E255-BB76-48CC-993B-BB117C1A5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55D0-8D6B-4E49-A326-EFF7CE878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5190-3B1B-4DBE-AE8F-6415F2047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5CCE-6D68-4641-8816-1AE66C403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09AD-0502-4084-B86E-4A2A89DFA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997A-A91D-41E3-A345-15AD9157C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AC28-D46C-44E7-ACAF-35F24D99E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2BD-F612-491B-89D9-3F9BC436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E89-C73C-4AE8-A97D-9562A10C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D97-0F0C-4ABB-BF74-A84864DE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F08-1FD8-4A7B-81FC-63BEAFD6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DB0-504E-4668-8F92-F8C67195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3AD-324D-4D3C-B22B-32ACC0B6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DD0-BAA9-45A8-A28F-179FD576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E14-AC01-4EAF-9F45-73BD8B32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BDB-CECF-4870-AB8B-9710A93F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CFC-EDC5-4123-BB48-9043BE96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9B7-FF7B-406B-A78B-2B1D12FE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516-3FE3-43E9-A980-8A2C0649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AE06-2B31-4A2B-8DA8-02209BF74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2_03TreeWaterFlow_2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32_UN660NitrogenUptake_L.jpg"/>
          <p:cNvPicPr/>
          <p:nvPr/>
        </p:nvPicPr>
        <p:blipFill>
          <a:blip r:embed="rId1"/>
          <a:stretch/>
        </p:blipFill>
        <p:spPr>
          <a:xfrm>
            <a:off x="762120" y="1509840"/>
            <a:ext cx="76197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2_UN661TranspirationRate_T.jpg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32_UN660NutrientTransport_L.jpg"/>
          <p:cNvPicPr/>
          <p:nvPr/>
        </p:nvPicPr>
        <p:blipFill>
          <a:blip r:embed="rId1"/>
          <a:stretch/>
        </p:blipFill>
        <p:spPr>
          <a:xfrm>
            <a:off x="762120" y="1004760"/>
            <a:ext cx="76197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34_06aSolarRadLatitude_L.jpg"/>
          <p:cNvPicPr/>
          <p:nvPr/>
        </p:nvPicPr>
        <p:blipFill>
          <a:blip r:embed="rId1"/>
          <a:stretch/>
        </p:blipFill>
        <p:spPr>
          <a:xfrm>
            <a:off x="800280" y="590400"/>
            <a:ext cx="75438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34_06bTiltAndSeason_L.jpg"/>
          <p:cNvPicPr/>
          <p:nvPr/>
        </p:nvPicPr>
        <p:blipFill>
          <a:blip r:embed="rId1"/>
          <a:stretch/>
        </p:blipFill>
        <p:spPr>
          <a:xfrm>
            <a:off x="790560" y="571680"/>
            <a:ext cx="756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34_06cWindRainCause_L.jpg"/>
          <p:cNvPicPr/>
          <p:nvPr/>
        </p:nvPicPr>
        <p:blipFill>
          <a:blip r:embed="rId1"/>
          <a:stretch/>
        </p:blipFill>
        <p:spPr>
          <a:xfrm>
            <a:off x="762120" y="861840"/>
            <a:ext cx="761976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34_06dPrevailingWind_L.jpg"/>
          <p:cNvPicPr/>
          <p:nvPr/>
        </p:nvPicPr>
        <p:blipFill>
          <a:blip r:embed="rId1"/>
          <a:stretch/>
        </p:blipFill>
        <p:spPr>
          <a:xfrm>
            <a:off x="1623960" y="571680"/>
            <a:ext cx="589608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813960" y="544680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ailing w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34_06eSoCalSumTemps_L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34_06fMountainAndRainfall_L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34_06fMountainAndRainfall_U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32_03TreeWaterFlow_3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34_07bOceanicZones_L.jpg"/>
          <p:cNvPicPr/>
          <p:nvPr/>
        </p:nvPicPr>
        <p:blipFill>
          <a:blip r:embed="rId1"/>
          <a:stretch/>
        </p:blipFill>
        <p:spPr>
          <a:xfrm>
            <a:off x="1357200" y="571680"/>
            <a:ext cx="64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34_09TerrestrialBiomesMap_L.jpg"/>
          <p:cNvPicPr/>
          <p:nvPr/>
        </p:nvPicPr>
        <p:blipFill>
          <a:blip r:embed="rId1"/>
          <a:stretch/>
        </p:blipFill>
        <p:spPr>
          <a:xfrm>
            <a:off x="762120" y="1257480"/>
            <a:ext cx="7619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34_10TropicalRainForest_CNL.jpg"/>
          <p:cNvPicPr/>
          <p:nvPr/>
        </p:nvPicPr>
        <p:blipFill>
          <a:blip r:embed="rId1"/>
          <a:stretch/>
        </p:blipFill>
        <p:spPr>
          <a:xfrm>
            <a:off x="762120" y="1747800"/>
            <a:ext cx="7619760" cy="336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880920" y="617148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pical Rain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34_12Desert_CNL.jpg"/>
          <p:cNvPicPr/>
          <p:nvPr/>
        </p:nvPicPr>
        <p:blipFill>
          <a:blip r:embed="rId1"/>
          <a:stretch/>
        </p:blipFill>
        <p:spPr>
          <a:xfrm>
            <a:off x="762120" y="1457280"/>
            <a:ext cx="7619760" cy="3943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4075560" y="6850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34_13Chaparral_CNL.jpg"/>
          <p:cNvPicPr/>
          <p:nvPr/>
        </p:nvPicPr>
        <p:blipFill>
          <a:blip r:embed="rId1"/>
          <a:stretch/>
        </p:blipFill>
        <p:spPr>
          <a:xfrm>
            <a:off x="762120" y="985680"/>
            <a:ext cx="7619760" cy="4886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124640" y="35805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arr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4_14TemperateGrassland_CNL.jpg"/>
          <p:cNvPicPr/>
          <p:nvPr/>
        </p:nvPicPr>
        <p:blipFill>
          <a:blip r:embed="rId1"/>
          <a:stretch/>
        </p:blipFill>
        <p:spPr>
          <a:xfrm>
            <a:off x="762120" y="1562040"/>
            <a:ext cx="7619760" cy="3733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165120" y="1142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Grass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34_11Savanna_CNL.jpg"/>
          <p:cNvPicPr/>
          <p:nvPr/>
        </p:nvPicPr>
        <p:blipFill>
          <a:blip r:embed="rId1"/>
          <a:stretch/>
        </p:blipFill>
        <p:spPr>
          <a:xfrm>
            <a:off x="762120" y="2033640"/>
            <a:ext cx="7619760" cy="279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432080" y="498960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vann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34_15TemperateForest_CNL.jpg"/>
          <p:cNvPicPr/>
          <p:nvPr/>
        </p:nvPicPr>
        <p:blipFill>
          <a:blip r:embed="rId1"/>
          <a:stretch/>
        </p:blipFill>
        <p:spPr>
          <a:xfrm>
            <a:off x="762120" y="1057320"/>
            <a:ext cx="7619760" cy="4743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762200" y="60192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26040" y="57906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iferous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34_16ConiferousForest_CNL.jpg"/>
          <p:cNvPicPr/>
          <p:nvPr/>
        </p:nvPicPr>
        <p:blipFill>
          <a:blip r:embed="rId1"/>
          <a:stretch/>
        </p:blipFill>
        <p:spPr>
          <a:xfrm>
            <a:off x="1295280" y="1905120"/>
            <a:ext cx="7620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34_17Tundra_CNL.jpg"/>
          <p:cNvPicPr/>
          <p:nvPr/>
        </p:nvPicPr>
        <p:blipFill>
          <a:blip r:embed="rId1"/>
          <a:stretch/>
        </p:blipFill>
        <p:spPr>
          <a:xfrm>
            <a:off x="762120" y="1495440"/>
            <a:ext cx="7619760" cy="3867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242000" y="5675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nd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32_04GuardCellsStomata_L.jpg"/>
          <p:cNvPicPr/>
          <p:nvPr/>
        </p:nvPicPr>
        <p:blipFill>
          <a:blip r:embed="rId1"/>
          <a:stretch/>
        </p:blipFill>
        <p:spPr>
          <a:xfrm>
            <a:off x="762120" y="2090880"/>
            <a:ext cx="76197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34_UN700SolarRadiation_L.jpg"/>
          <p:cNvPicPr/>
          <p:nvPr/>
        </p:nvPicPr>
        <p:blipFill>
          <a:blip r:embed="rId1"/>
          <a:stretch/>
        </p:blipFill>
        <p:spPr>
          <a:xfrm>
            <a:off x="1752480" y="590400"/>
            <a:ext cx="56390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34_UN700EarthsOrbit_U.jpg"/>
          <p:cNvPicPr/>
          <p:nvPr/>
        </p:nvPicPr>
        <p:blipFill>
          <a:blip r:embed="rId1"/>
          <a:stretch/>
        </p:blipFill>
        <p:spPr>
          <a:xfrm>
            <a:off x="852480" y="581040"/>
            <a:ext cx="7439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7_02aCompetExclusion_CL.jpg"/>
          <p:cNvPicPr/>
          <p:nvPr/>
        </p:nvPicPr>
        <p:blipFill>
          <a:blip r:embed="rId1"/>
          <a:stretch/>
        </p:blipFill>
        <p:spPr>
          <a:xfrm>
            <a:off x="762120" y="1514520"/>
            <a:ext cx="76197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37_02bResourcePartition_CL.jpg"/>
          <p:cNvPicPr/>
          <p:nvPr/>
        </p:nvPicPr>
        <p:blipFill>
          <a:blip r:embed="rId1"/>
          <a:stretch/>
        </p:blipFill>
        <p:spPr>
          <a:xfrm>
            <a:off x="762120" y="1486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37_09FoodChains_L.jpg"/>
          <p:cNvPicPr/>
          <p:nvPr/>
        </p:nvPicPr>
        <p:blipFill>
          <a:blip r:embed="rId1"/>
          <a:stretch/>
        </p:blipFill>
        <p:spPr>
          <a:xfrm>
            <a:off x="2624040" y="5716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37_10FoodWeb_L.jpg"/>
          <p:cNvPicPr/>
          <p:nvPr/>
        </p:nvPicPr>
        <p:blipFill>
          <a:blip r:embed="rId1"/>
          <a:stretch/>
        </p:blipFill>
        <p:spPr>
          <a:xfrm>
            <a:off x="2147760" y="571680"/>
            <a:ext cx="4848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7_11TerrariumEcosystem_L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7_12EcosystemNPP_L.jpg"/>
          <p:cNvPicPr/>
          <p:nvPr/>
        </p:nvPicPr>
        <p:blipFill>
          <a:blip r:embed="rId1"/>
          <a:stretch/>
        </p:blipFill>
        <p:spPr>
          <a:xfrm>
            <a:off x="762120" y="72396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37_13ProductionPyramid_L.jpg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37_14EatMeatLuxury_L.jpg"/>
          <p:cNvPicPr/>
          <p:nvPr/>
        </p:nvPicPr>
        <p:blipFill>
          <a:blip r:embed="rId1"/>
          <a:stretch/>
        </p:blipFill>
        <p:spPr>
          <a:xfrm>
            <a:off x="762120" y="1738440"/>
            <a:ext cx="76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32_05bPressFlowSourceSink_U.jpg"/>
          <p:cNvPicPr/>
          <p:nvPr/>
        </p:nvPicPr>
        <p:blipFill>
          <a:blip r:embed="rId1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37_15NutrientCycling_L.jpg"/>
          <p:cNvPicPr/>
          <p:nvPr/>
        </p:nvPicPr>
        <p:blipFill>
          <a:blip r:embed="rId1"/>
          <a:stretch/>
        </p:blipFill>
        <p:spPr>
          <a:xfrm>
            <a:off x="1471680" y="571680"/>
            <a:ext cx="6200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37_16GlobalWater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37_17CarbonCycle_L.jpg"/>
          <p:cNvPicPr/>
          <p:nvPr/>
        </p:nvPicPr>
        <p:blipFill>
          <a:blip r:embed="rId1"/>
          <a:stretch/>
        </p:blipFill>
        <p:spPr>
          <a:xfrm>
            <a:off x="1600200" y="571680"/>
            <a:ext cx="594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37_17CarbonCycle_U.jpg"/>
          <p:cNvPicPr/>
          <p:nvPr/>
        </p:nvPicPr>
        <p:blipFill>
          <a:blip r:embed="rId1"/>
          <a:stretch/>
        </p:blipFill>
        <p:spPr>
          <a:xfrm>
            <a:off x="1604880" y="571680"/>
            <a:ext cx="593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37_18Nitrogen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37_19PhosphorusCycle_L.jpg"/>
          <p:cNvPicPr/>
          <p:nvPr/>
        </p:nvPicPr>
        <p:blipFill>
          <a:blip r:embed="rId1"/>
          <a:stretch/>
        </p:blipFill>
        <p:spPr>
          <a:xfrm>
            <a:off x="1590840" y="571680"/>
            <a:ext cx="596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37_UN762EcosystemCycling_L.jpg"/>
          <p:cNvPicPr/>
          <p:nvPr/>
        </p:nvPicPr>
        <p:blipFill>
          <a:blip r:embed="rId1"/>
          <a:stretch/>
        </p:blipFill>
        <p:spPr>
          <a:xfrm>
            <a:off x="762120" y="1290600"/>
            <a:ext cx="7619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7_UN762ConceptMap_L.jpg"/>
          <p:cNvPicPr/>
          <p:nvPr/>
        </p:nvPicPr>
        <p:blipFill>
          <a:blip r:embed="rId1"/>
          <a:stretch/>
        </p:blipFill>
        <p:spPr>
          <a:xfrm>
            <a:off x="1595520" y="571680"/>
            <a:ext cx="5952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2_05cAphidPhloemSap_CL.jpg"/>
          <p:cNvPicPr/>
          <p:nvPr/>
        </p:nvPicPr>
        <p:blipFill>
          <a:blip r:embed="rId1"/>
          <a:stretch/>
        </p:blipFill>
        <p:spPr>
          <a:xfrm>
            <a:off x="762120" y="1595520"/>
            <a:ext cx="76197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2_06HydroponicCulture_L.jpg"/>
          <p:cNvPicPr/>
          <p:nvPr/>
        </p:nvPicPr>
        <p:blipFill>
          <a:blip r:embed="rId1"/>
          <a:stretch/>
        </p:blipFill>
        <p:spPr>
          <a:xfrm>
            <a:off x="2038320" y="571680"/>
            <a:ext cx="5067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32_08cCationExchange_L.jpg"/>
          <p:cNvPicPr/>
          <p:nvPr/>
        </p:nvPicPr>
        <p:blipFill>
          <a:blip r:embed="rId1"/>
          <a:stretch/>
        </p:blipFill>
        <p:spPr>
          <a:xfrm>
            <a:off x="1628640" y="571680"/>
            <a:ext cx="5886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_13NitrogenFixation_L.jpg"/>
          <p:cNvPicPr/>
          <p:nvPr/>
        </p:nvPicPr>
        <p:blipFill>
          <a:blip r:embed="rId1"/>
          <a:stretch/>
        </p:blipFill>
        <p:spPr>
          <a:xfrm>
            <a:off x="771480" y="1905120"/>
            <a:ext cx="7601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32_UN660ConceptMap_L.jpg"/>
          <p:cNvPicPr/>
          <p:nvPr/>
        </p:nvPicPr>
        <p:blipFill>
          <a:blip r:embed="rId1"/>
          <a:stretch/>
        </p:blipFill>
        <p:spPr>
          <a:xfrm>
            <a:off x="762120" y="695160"/>
            <a:ext cx="761976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8:17:19Z</dcterms:created>
  <dc:creator>Daniel Church</dc:creator>
  <dc:description/>
  <dc:language>en-US</dc:language>
  <cp:lastModifiedBy>Daniel Church</cp:lastModifiedBy>
  <dcterms:modified xsi:type="dcterms:W3CDTF">2008-07-24T18:17:39Z</dcterms:modified>
  <cp:revision>1</cp:revision>
  <dc:subject/>
  <dc:title>Slide 1</dc:title>
</cp:coreProperties>
</file>