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5.pct" ContentType="image/x-pict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7EF9-D438-49A8-BDD3-ABD51AC51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F1E-F92D-4F99-B998-657A56B7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BE7-E9F4-49B8-BA15-DC6DE52C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E16-C026-4281-9107-F41A8D1C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D54-868E-4E8D-8E3D-04F6DBF0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F14-8E3F-490C-9E26-E55CC8E9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88F-B1BA-4CC4-B373-9213BA77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46B-374F-4C0E-B111-BA7D1A25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D65-7311-4459-9B06-E8DA0D8B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FCF-5D34-42F1-9E97-6B5AAE3B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989-BC60-4214-96D2-D394B3AC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EE4-752F-4CD8-B0FB-47CEE76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E09-BC4D-46DF-A17D-387EDB81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228E-E754-498E-AFB3-BCF10EA92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9.xml"/><Relationship Id="rId21" Type="http://schemas.openxmlformats.org/officeDocument/2006/relationships/slide" Target="slide29.xml"/><Relationship Id="rId22" Type="http://schemas.openxmlformats.org/officeDocument/2006/relationships/slide" Target="slide31.xml"/><Relationship Id="rId23" Type="http://schemas.openxmlformats.org/officeDocument/2006/relationships/slide" Target="slide31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5.xml"/><Relationship Id="rId27" Type="http://schemas.openxmlformats.org/officeDocument/2006/relationships/slide" Target="slide35.xml"/><Relationship Id="rId28" Type="http://schemas.openxmlformats.org/officeDocument/2006/relationships/slide" Target="slide37.xml"/><Relationship Id="rId29" Type="http://schemas.openxmlformats.org/officeDocument/2006/relationships/slide" Target="slide37.xml"/><Relationship Id="rId30" Type="http://schemas.openxmlformats.org/officeDocument/2006/relationships/slide" Target="slide39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1.xml"/><Relationship Id="rId34" Type="http://schemas.openxmlformats.org/officeDocument/2006/relationships/slide" Target="slide43.xml"/><Relationship Id="rId35" Type="http://schemas.openxmlformats.org/officeDocument/2006/relationships/slide" Target="slide43.xml"/><Relationship Id="rId36" Type="http://schemas.openxmlformats.org/officeDocument/2006/relationships/slide" Target="slide45.xml"/><Relationship Id="rId37" Type="http://schemas.openxmlformats.org/officeDocument/2006/relationships/slide" Target="slide45.xml"/><Relationship Id="rId38" Type="http://schemas.openxmlformats.org/officeDocument/2006/relationships/slide" Target="slide47.xml"/><Relationship Id="rId39" Type="http://schemas.openxmlformats.org/officeDocument/2006/relationships/slide" Target="slide47.xml"/><Relationship Id="rId40" Type="http://schemas.openxmlformats.org/officeDocument/2006/relationships/slide" Target="slide49.xml"/><Relationship Id="rId41" Type="http://schemas.openxmlformats.org/officeDocument/2006/relationships/slide" Target="slide49.xml"/><Relationship Id="rId42" Type="http://schemas.openxmlformats.org/officeDocument/2006/relationships/slide" Target="slide51.xml"/><Relationship Id="rId43" Type="http://schemas.openxmlformats.org/officeDocument/2006/relationships/slide" Target="slide53.xml"/><Relationship Id="rId44" Type="http://schemas.openxmlformats.org/officeDocument/2006/relationships/slide" Target="slide53.xml"/><Relationship Id="rId45" Type="http://schemas.openxmlformats.org/officeDocument/2006/relationships/slide" Target="slide57.xml"/><Relationship Id="rId46" Type="http://schemas.openxmlformats.org/officeDocument/2006/relationships/slide" Target="slide59.xml"/><Relationship Id="rId47" Type="http://schemas.openxmlformats.org/officeDocument/2006/relationships/slide" Target="slide61.xml"/><Relationship Id="rId48" Type="http://schemas.openxmlformats.org/officeDocument/2006/relationships/slide" Target="slide61.xml"/><Relationship Id="rId49" Type="http://schemas.openxmlformats.org/officeDocument/2006/relationships/slide" Target="slide63.xml"/><Relationship Id="rId50" Type="http://schemas.openxmlformats.org/officeDocument/2006/relationships/slide" Target="slide65.xml"/><Relationship Id="rId51" Type="http://schemas.openxmlformats.org/officeDocument/2006/relationships/slide" Target="slide65.xml"/><Relationship Id="rId52" Type="http://schemas.openxmlformats.org/officeDocument/2006/relationships/slide" Target="slide6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14600" y="5867280"/>
            <a:ext cx="6094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ci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0"/>
            <a:ext cx="4267080" cy="2971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w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 me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ndines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05120" y="175248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le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lamm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propert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, in order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asure flamm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must bur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, changing 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identity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 why mel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 is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can measu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lting point b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ing at w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mperature someth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lts. This does n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 the chemical identit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st the arrangement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olecul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the fu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ion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 be measu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observed ab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bject wit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ing its 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a ste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scientif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ho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Propert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ma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152280" y="46483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dat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sis 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 a so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fic metho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w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ely 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0" y="31240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re are si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 p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hypothesi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2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cientific Metho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[independent variable]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, then [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] chang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f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llowing quest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es the grass grow f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re is more sunligh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re is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nlight, the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 will grow fast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f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llowing quest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the spaceship fly f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crew brings lot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anut bu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crew bring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peanut butte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the ship will f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low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the follo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enario: Jackson w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red, very tired, so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rank a 5 hour energ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started drinking a l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5 hour energies, but th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also started feeling sick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Jackson drinks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 hour energies, then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be less health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hnson thought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esident was tell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es, so he went to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orter. The repor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ndered if Johnson w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ling the truth. This woul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ffect if she wrote a sto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Johnson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ling the truth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the repor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write the sto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25840" y="1949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ing a 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 in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erim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52280" y="3733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variab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es the scient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 or 2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. The dependent depe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independ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. The independent depe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depend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 for the follow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: Isreal wond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ime sleeping in class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lated to his grad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e sleeping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: Nate had two dog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lie and Gizmo,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ndered if how much th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rank was related to h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times they peed o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loo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ti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ed on floo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8098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 exampl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chang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dependent, or depend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is the questio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hange that do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 change the 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ty. Normally they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ib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spread pean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tter on a slic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d. Explain why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s a physical chang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emical ident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peanut but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d not change. You st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ve peanut butt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burn up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h text book 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nd of the scho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ar. Was this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 Why or why 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, you changed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identity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book and it can't b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581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boiling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 Why or wh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s, the arrang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water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, but you st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st have water. No ch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chemical identi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905120" y="1828800"/>
            <a:ext cx="5562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47920" y="266688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made up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or more differ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s or objec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828800"/>
            <a:ext cx="5562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compou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made 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wo or more differ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atoms bon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geth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905120" y="1828800"/>
            <a:ext cx="55623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 example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ution. Is this a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 var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yes, it is a mixtur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3581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water a comp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a mixture? Wh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ompoun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was the conclu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mixture lab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ffee filters canno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parate solu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Comic Sans MS"/>
              </a:rPr>
              <a:t>Hypothe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1752480"/>
            <a:ext cx="76212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1981080"/>
            <a:ext cx="761760" cy="685800"/>
          </a:xfrm>
          <a:prstGeom prst="star5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34320" y="3581280"/>
            <a:ext cx="761760" cy="685800"/>
          </a:xfrm>
          <a:prstGeom prst="star5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219320"/>
            <a:ext cx="762120" cy="685800"/>
          </a:xfrm>
          <a:prstGeom prst="star5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1676520"/>
            <a:ext cx="76176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xtures and 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 proper 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label the variables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question: Does revie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help you get a be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de on a tes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153280" y="59436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V: reviewing t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V: test gra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you review mor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you will get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tter grad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533520"/>
            <a:ext cx="8305560" cy="5943600"/>
          </a:xfrm>
          <a:custGeom>
            <a:avLst/>
            <a:gdLst>
              <a:gd name="textAreaLeft" fmla="*/ 385200 w 8305560"/>
              <a:gd name="textAreaRight" fmla="*/ 7920360 w 8305560"/>
              <a:gd name="textAreaTop" fmla="*/ 385200 h 5943600"/>
              <a:gd name="textAreaBottom" fmla="*/ 5558400 h 5943600"/>
            </a:gdLst>
            <a:ahLst/>
            <a:rect l="textAreaLeft" t="textAreaTop" r="textAreaRight" b="textAreaBottom"/>
            <a:pathLst>
              <a:path w="30183" h="21600">
                <a:moveTo>
                  <a:pt x="0" y="0"/>
                </a:moveTo>
                <a:lnTo>
                  <a:pt x="30183" y="0"/>
                </a:lnTo>
                <a:lnTo>
                  <a:pt x="30183" y="21600"/>
                </a:lnTo>
                <a:lnTo>
                  <a:pt x="0" y="21600"/>
                </a:lnTo>
                <a:close/>
              </a:path>
              <a:path fill="lightenLess" w="30183" h="21600">
                <a:moveTo>
                  <a:pt x="0" y="0"/>
                </a:moveTo>
                <a:lnTo>
                  <a:pt x="30183" y="0"/>
                </a:lnTo>
                <a:lnTo>
                  <a:pt x="28783" y="1400"/>
                </a:lnTo>
                <a:lnTo>
                  <a:pt x="1400" y="1400"/>
                </a:lnTo>
                <a:close/>
              </a:path>
              <a:path fill="darken" w="30183" h="21600">
                <a:moveTo>
                  <a:pt x="30183" y="0"/>
                </a:moveTo>
                <a:lnTo>
                  <a:pt x="30183" y="21600"/>
                </a:lnTo>
                <a:lnTo>
                  <a:pt x="28783" y="20200"/>
                </a:lnTo>
                <a:lnTo>
                  <a:pt x="28783" y="1400"/>
                </a:lnTo>
                <a:close/>
              </a:path>
              <a:path fill="darkenLess" w="30183" h="21600">
                <a:moveTo>
                  <a:pt x="30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3" y="20200"/>
                </a:lnTo>
                <a:close/>
              </a:path>
              <a:path fill="lighten" w="30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57800" y="3276720"/>
            <a:ext cx="91440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0400" y="1676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371600" y="914400"/>
            <a:ext cx="68580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15238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86600" y="15238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19051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9907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5410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0292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48769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689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89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89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ysical Propert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Scientific Metho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king a Hypothes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xtures/Compoun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ysical Chang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dependent/Depend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Nathaniel Taylor</cp:lastModifiedBy>
  <dcterms:modified xsi:type="dcterms:W3CDTF">2010-07-19T04:20:26Z</dcterms:modified>
  <cp:revision>105</cp:revision>
  <dc:subject/>
  <dc:title>No Slide Title</dc:title>
</cp:coreProperties>
</file>