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4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7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CHIMES.WAV" ContentType="audio/x-wav"/>
  <Override PartName="/ppt/media/image5.pct" ContentType="image/x-pict"/>
  <Override PartName="/ppt/media/projctor.wav" ContentType="audio/x-wav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97681-43AC-4B7F-A733-4C47D03E17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Complete the Daily Double Sequence for Round One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on any blue area on the slide that is currently displayed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on  Slide Show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Action Sett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ction Settings Dialog Box will be displayed.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will see that the HYPERLINK is currently set to “Slide 8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 the HYPERLINK so that it is set to the slide number you made note of previous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OK until the Action Settings Dialog Box disappe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turn to Slide 8 and select View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lide Show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 your Daily Double button to make sure it works as you wish it t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und One should contain one “Daily Double” question.  To insert the “Daily Double Screen”, follow these step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 Select the desired button on this slide by clicking on 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on SLIDE SHOW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ACTION SETT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a note of which slide the HYPERLINK is currently set t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“Action Settings” dialogue box, change the HYPERLINK to “Daily Double Round 1”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 Now go to Slide “Daily Double Round 1”  in this presentation, and follow the directions in the “Notes” s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70F06-386E-4750-AA72-4A44C3E9E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37B5D-BEE5-4BCC-AF91-DF6713F6D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7D9EB-2FDF-4759-95CD-5654EAF62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B1489-CEE2-4B50-8B71-93C65F4C4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F14B8-6275-4153-ADE9-C952B26A2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86DA5-1890-42C2-96B1-646CDA30F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AF540-3840-4CB4-B16C-C0DEC0CCD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66872-E22A-4094-A736-416E97488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B95AF-6656-42FD-83E9-9F8AD3DF2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9E29C-7444-4265-B6BE-35EAE4F05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6D1B9-63D2-4A06-85DE-1EC1E739B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4DB59-94C4-4B26-B522-BB0ACA942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25B68-864D-44AC-84B4-61852A753A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ct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9.xml"/><Relationship Id="rId3" Type="http://schemas.openxmlformats.org/officeDocument/2006/relationships/slide" Target="slide9.xml"/><Relationship Id="rId4" Type="http://schemas.openxmlformats.org/officeDocument/2006/relationships/slide" Target="slide11.xml"/><Relationship Id="rId5" Type="http://schemas.openxmlformats.org/officeDocument/2006/relationships/slide" Target="slide11.xml"/><Relationship Id="rId6" Type="http://schemas.openxmlformats.org/officeDocument/2006/relationships/slide" Target="slide13.xml"/><Relationship Id="rId7" Type="http://schemas.openxmlformats.org/officeDocument/2006/relationships/slide" Target="slide13.xml"/><Relationship Id="rId8" Type="http://schemas.openxmlformats.org/officeDocument/2006/relationships/slide" Target="slide15.xml"/><Relationship Id="rId9" Type="http://schemas.openxmlformats.org/officeDocument/2006/relationships/slide" Target="slide17.xml"/><Relationship Id="rId10" Type="http://schemas.openxmlformats.org/officeDocument/2006/relationships/slide" Target="slide17.xml"/><Relationship Id="rId11" Type="http://schemas.openxmlformats.org/officeDocument/2006/relationships/slide" Target="slide19.xml"/><Relationship Id="rId12" Type="http://schemas.openxmlformats.org/officeDocument/2006/relationships/slide" Target="slide19.xml"/><Relationship Id="rId13" Type="http://schemas.openxmlformats.org/officeDocument/2006/relationships/slide" Target="slide21.xml"/><Relationship Id="rId14" Type="http://schemas.openxmlformats.org/officeDocument/2006/relationships/slide" Target="slide21.xml"/><Relationship Id="rId15" Type="http://schemas.openxmlformats.org/officeDocument/2006/relationships/slide" Target="slide23.xml"/><Relationship Id="rId16" Type="http://schemas.openxmlformats.org/officeDocument/2006/relationships/slide" Target="slide23.xml"/><Relationship Id="rId17" Type="http://schemas.openxmlformats.org/officeDocument/2006/relationships/slide" Target="slide25.xml"/><Relationship Id="rId18" Type="http://schemas.openxmlformats.org/officeDocument/2006/relationships/slide" Target="slide25.xml"/><Relationship Id="rId19" Type="http://schemas.openxmlformats.org/officeDocument/2006/relationships/slide" Target="slide27.xml"/><Relationship Id="rId20" Type="http://schemas.openxmlformats.org/officeDocument/2006/relationships/slide" Target="slide29.xml"/><Relationship Id="rId21" Type="http://schemas.openxmlformats.org/officeDocument/2006/relationships/slide" Target="slide29.xml"/><Relationship Id="rId22" Type="http://schemas.openxmlformats.org/officeDocument/2006/relationships/slide" Target="slide31.xml"/><Relationship Id="rId23" Type="http://schemas.openxmlformats.org/officeDocument/2006/relationships/slide" Target="slide31.xml"/><Relationship Id="rId24" Type="http://schemas.openxmlformats.org/officeDocument/2006/relationships/slide" Target="slide33.xml"/><Relationship Id="rId25" Type="http://schemas.openxmlformats.org/officeDocument/2006/relationships/slide" Target="slide33.xml"/><Relationship Id="rId26" Type="http://schemas.openxmlformats.org/officeDocument/2006/relationships/slide" Target="slide35.xml"/><Relationship Id="rId27" Type="http://schemas.openxmlformats.org/officeDocument/2006/relationships/slide" Target="slide35.xml"/><Relationship Id="rId28" Type="http://schemas.openxmlformats.org/officeDocument/2006/relationships/slide" Target="slide37.xml"/><Relationship Id="rId29" Type="http://schemas.openxmlformats.org/officeDocument/2006/relationships/slide" Target="slide37.xml"/><Relationship Id="rId30" Type="http://schemas.openxmlformats.org/officeDocument/2006/relationships/slide" Target="slide39.xml"/><Relationship Id="rId31" Type="http://schemas.openxmlformats.org/officeDocument/2006/relationships/slide" Target="slide39.xml"/><Relationship Id="rId32" Type="http://schemas.openxmlformats.org/officeDocument/2006/relationships/slide" Target="slide41.xml"/><Relationship Id="rId33" Type="http://schemas.openxmlformats.org/officeDocument/2006/relationships/slide" Target="slide41.xml"/><Relationship Id="rId34" Type="http://schemas.openxmlformats.org/officeDocument/2006/relationships/slide" Target="slide43.xml"/><Relationship Id="rId35" Type="http://schemas.openxmlformats.org/officeDocument/2006/relationships/slide" Target="slide43.xml"/><Relationship Id="rId36" Type="http://schemas.openxmlformats.org/officeDocument/2006/relationships/slide" Target="slide45.xml"/><Relationship Id="rId37" Type="http://schemas.openxmlformats.org/officeDocument/2006/relationships/slide" Target="slide45.xml"/><Relationship Id="rId38" Type="http://schemas.openxmlformats.org/officeDocument/2006/relationships/slide" Target="slide47.xml"/><Relationship Id="rId39" Type="http://schemas.openxmlformats.org/officeDocument/2006/relationships/slide" Target="slide47.xml"/><Relationship Id="rId40" Type="http://schemas.openxmlformats.org/officeDocument/2006/relationships/slide" Target="slide49.xml"/><Relationship Id="rId41" Type="http://schemas.openxmlformats.org/officeDocument/2006/relationships/slide" Target="slide49.xml"/><Relationship Id="rId42" Type="http://schemas.openxmlformats.org/officeDocument/2006/relationships/slide" Target="slide51.xml"/><Relationship Id="rId43" Type="http://schemas.openxmlformats.org/officeDocument/2006/relationships/slide" Target="slide53.xml"/><Relationship Id="rId44" Type="http://schemas.openxmlformats.org/officeDocument/2006/relationships/slide" Target="slide53.xml"/><Relationship Id="rId45" Type="http://schemas.openxmlformats.org/officeDocument/2006/relationships/slide" Target="slide57.xml"/><Relationship Id="rId46" Type="http://schemas.openxmlformats.org/officeDocument/2006/relationships/slide" Target="slide59.xml"/><Relationship Id="rId47" Type="http://schemas.openxmlformats.org/officeDocument/2006/relationships/slide" Target="slide61.xml"/><Relationship Id="rId48" Type="http://schemas.openxmlformats.org/officeDocument/2006/relationships/slide" Target="slide61.xml"/><Relationship Id="rId49" Type="http://schemas.openxmlformats.org/officeDocument/2006/relationships/slide" Target="slide63.xml"/><Relationship Id="rId50" Type="http://schemas.openxmlformats.org/officeDocument/2006/relationships/slide" Target="slide65.xml"/><Relationship Id="rId51" Type="http://schemas.openxmlformats.org/officeDocument/2006/relationships/slide" Target="slide65.xml"/><Relationship Id="rId52" Type="http://schemas.openxmlformats.org/officeDocument/2006/relationships/slide" Target="slide67.xml"/><Relationship Id="rId53" Type="http://schemas.openxmlformats.org/officeDocument/2006/relationships/slideLayout" Target="../slideLayouts/slideLayout1.xml"/><Relationship Id="rId5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8991720" y="670572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8991720" y="670572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0" y="6781680"/>
            <a:ext cx="76320" cy="763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 txBox="1"/>
          <p:nvPr/>
        </p:nvSpPr>
        <p:spPr>
          <a:xfrm>
            <a:off x="2514600" y="5867280"/>
            <a:ext cx="609480" cy="855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Scienc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52" name=""/>
          <p:cNvSpPr/>
          <p:nvPr/>
        </p:nvSpPr>
        <p:spPr>
          <a:xfrm>
            <a:off x="4876920" y="0"/>
            <a:ext cx="4267080" cy="2971800"/>
          </a:xfrm>
          <a:prstGeom prst="rect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469" fill="hold"/>
                                        <p:tgtEl>
                                          <p:spTgt spid="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2469"/>
                            </p:stCondLst>
                            <p:childTnLst>
                              <p:par>
                                <p:cTn id="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" dur="4671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714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950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nswers will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vary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1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-1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>
            <a:hlinkClick r:id="rId2" action="ppaction://hlinksldjump"/>
          </p:cNvPr>
          <p:cNvSpPr/>
          <p:nvPr/>
        </p:nvSpPr>
        <p:spPr>
          <a:xfrm>
            <a:off x="0" y="0"/>
            <a:ext cx="9144000" cy="6553080"/>
          </a:xfrm>
          <a:custGeom>
            <a:avLst/>
            <a:gdLst>
              <a:gd name="textAreaLeft" fmla="*/ 424440 w 9144000"/>
              <a:gd name="textAreaRight" fmla="*/ 8719560 w 9144000"/>
              <a:gd name="textAreaTop" fmla="*/ 424440 h 6553080"/>
              <a:gd name="textAreaBottom" fmla="*/ 6128640 h 6553080"/>
            </a:gdLst>
            <a:ahLst/>
            <a:rect l="textAreaLeft" t="textAreaTop" r="textAreaRight" b="textAreaBottom"/>
            <a:pathLst>
              <a:path w="30140" h="21600">
                <a:moveTo>
                  <a:pt x="0" y="0"/>
                </a:moveTo>
                <a:lnTo>
                  <a:pt x="30140" y="0"/>
                </a:lnTo>
                <a:lnTo>
                  <a:pt x="30140" y="21600"/>
                </a:lnTo>
                <a:lnTo>
                  <a:pt x="0" y="21600"/>
                </a:lnTo>
                <a:close/>
              </a:path>
              <a:path fill="lightenLess" w="30140" h="21600">
                <a:moveTo>
                  <a:pt x="0" y="0"/>
                </a:moveTo>
                <a:lnTo>
                  <a:pt x="30140" y="0"/>
                </a:lnTo>
                <a:lnTo>
                  <a:pt x="28740" y="1400"/>
                </a:lnTo>
                <a:lnTo>
                  <a:pt x="1400" y="1400"/>
                </a:lnTo>
                <a:close/>
              </a:path>
              <a:path fill="darken" w="30140" h="21600">
                <a:moveTo>
                  <a:pt x="30140" y="0"/>
                </a:moveTo>
                <a:lnTo>
                  <a:pt x="30140" y="21600"/>
                </a:lnTo>
                <a:lnTo>
                  <a:pt x="28740" y="20200"/>
                </a:lnTo>
                <a:lnTo>
                  <a:pt x="28740" y="1400"/>
                </a:lnTo>
                <a:close/>
              </a:path>
              <a:path fill="darkenLess" w="30140" h="21600">
                <a:moveTo>
                  <a:pt x="301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40" y="20200"/>
                </a:lnTo>
                <a:close/>
              </a:path>
              <a:path fill="lighten" w="301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physical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roperty mean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bendiness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2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-2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05120" y="175248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alleability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2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-2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>
            <a:hlinkClick r:id="rId2" action="ppaction://hlinksldjump"/>
          </p:cNvPr>
          <p:cNvSpPr/>
          <p:nvPr/>
        </p:nvSpPr>
        <p:spPr>
          <a:xfrm>
            <a:off x="0" y="0"/>
            <a:ext cx="9144000" cy="6553080"/>
          </a:xfrm>
          <a:custGeom>
            <a:avLst/>
            <a:gdLst>
              <a:gd name="textAreaLeft" fmla="*/ 424440 w 9144000"/>
              <a:gd name="textAreaRight" fmla="*/ 8719560 w 9144000"/>
              <a:gd name="textAreaTop" fmla="*/ 424440 h 6553080"/>
              <a:gd name="textAreaBottom" fmla="*/ 6128640 h 6553080"/>
            </a:gdLst>
            <a:ahLst/>
            <a:rect l="textAreaLeft" t="textAreaTop" r="textAreaRight" b="textAreaBottom"/>
            <a:pathLst>
              <a:path w="30140" h="21600">
                <a:moveTo>
                  <a:pt x="0" y="0"/>
                </a:moveTo>
                <a:lnTo>
                  <a:pt x="30140" y="0"/>
                </a:lnTo>
                <a:lnTo>
                  <a:pt x="30140" y="21600"/>
                </a:lnTo>
                <a:lnTo>
                  <a:pt x="0" y="21600"/>
                </a:lnTo>
                <a:close/>
              </a:path>
              <a:path fill="lightenLess" w="30140" h="21600">
                <a:moveTo>
                  <a:pt x="0" y="0"/>
                </a:moveTo>
                <a:lnTo>
                  <a:pt x="30140" y="0"/>
                </a:lnTo>
                <a:lnTo>
                  <a:pt x="28740" y="1400"/>
                </a:lnTo>
                <a:lnTo>
                  <a:pt x="1400" y="1400"/>
                </a:lnTo>
                <a:close/>
              </a:path>
              <a:path fill="darken" w="30140" h="21600">
                <a:moveTo>
                  <a:pt x="30140" y="0"/>
                </a:moveTo>
                <a:lnTo>
                  <a:pt x="30140" y="21600"/>
                </a:lnTo>
                <a:lnTo>
                  <a:pt x="28740" y="20200"/>
                </a:lnTo>
                <a:lnTo>
                  <a:pt x="28740" y="1400"/>
                </a:lnTo>
                <a:close/>
              </a:path>
              <a:path fill="darkenLess" w="30140" h="21600">
                <a:moveTo>
                  <a:pt x="301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40" y="20200"/>
                </a:lnTo>
                <a:close/>
              </a:path>
              <a:path fill="lighten" w="301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s flammability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 physical property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y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3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-3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No, in order to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easure flammability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e must burn th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stance, changing it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hemical identity!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3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-3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>
            <a:hlinkClick r:id="rId2" action="ppaction://hlinksldjump"/>
          </p:cNvPr>
          <p:cNvSpPr/>
          <p:nvPr/>
        </p:nvSpPr>
        <p:spPr>
          <a:xfrm>
            <a:off x="0" y="0"/>
            <a:ext cx="9144000" cy="6553080"/>
          </a:xfrm>
          <a:custGeom>
            <a:avLst/>
            <a:gdLst>
              <a:gd name="textAreaLeft" fmla="*/ 424440 w 9144000"/>
              <a:gd name="textAreaRight" fmla="*/ 8719560 w 9144000"/>
              <a:gd name="textAreaTop" fmla="*/ 424440 h 6553080"/>
              <a:gd name="textAreaBottom" fmla="*/ 6128640 h 6553080"/>
            </a:gdLst>
            <a:ahLst/>
            <a:rect l="textAreaLeft" t="textAreaTop" r="textAreaRight" b="textAreaBottom"/>
            <a:pathLst>
              <a:path w="30140" h="21600">
                <a:moveTo>
                  <a:pt x="0" y="0"/>
                </a:moveTo>
                <a:lnTo>
                  <a:pt x="30140" y="0"/>
                </a:lnTo>
                <a:lnTo>
                  <a:pt x="30140" y="21600"/>
                </a:lnTo>
                <a:lnTo>
                  <a:pt x="0" y="21600"/>
                </a:lnTo>
                <a:close/>
              </a:path>
              <a:path fill="lightenLess" w="30140" h="21600">
                <a:moveTo>
                  <a:pt x="0" y="0"/>
                </a:moveTo>
                <a:lnTo>
                  <a:pt x="30140" y="0"/>
                </a:lnTo>
                <a:lnTo>
                  <a:pt x="28740" y="1400"/>
                </a:lnTo>
                <a:lnTo>
                  <a:pt x="1400" y="1400"/>
                </a:lnTo>
                <a:close/>
              </a:path>
              <a:path fill="darken" w="30140" h="21600">
                <a:moveTo>
                  <a:pt x="30140" y="0"/>
                </a:moveTo>
                <a:lnTo>
                  <a:pt x="30140" y="21600"/>
                </a:lnTo>
                <a:lnTo>
                  <a:pt x="28740" y="20200"/>
                </a:lnTo>
                <a:lnTo>
                  <a:pt x="28740" y="1400"/>
                </a:lnTo>
                <a:close/>
              </a:path>
              <a:path fill="darkenLess" w="30140" h="21600">
                <a:moveTo>
                  <a:pt x="301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40" y="20200"/>
                </a:lnTo>
                <a:close/>
              </a:path>
              <a:path fill="lighten" w="301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Explain why melting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oint is a physical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roperty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4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-4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e can measur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elting point by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bserving at wha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emperature something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elts. This does no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hange the chemical identity,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just the arrangement of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e molecules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4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-4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>
            <a:hlinkClick r:id="rId2" action="ppaction://hlinksldjump"/>
          </p:cNvPr>
          <p:cNvSpPr/>
          <p:nvPr/>
        </p:nvSpPr>
        <p:spPr>
          <a:xfrm>
            <a:off x="0" y="0"/>
            <a:ext cx="9144000" cy="6553080"/>
          </a:xfrm>
          <a:custGeom>
            <a:avLst/>
            <a:gdLst>
              <a:gd name="textAreaLeft" fmla="*/ 424440 w 9144000"/>
              <a:gd name="textAreaRight" fmla="*/ 8719560 w 9144000"/>
              <a:gd name="textAreaTop" fmla="*/ 424440 h 6553080"/>
              <a:gd name="textAreaBottom" fmla="*/ 6128640 h 6553080"/>
            </a:gdLst>
            <a:ahLst/>
            <a:rect l="textAreaLeft" t="textAreaTop" r="textAreaRight" b="textAreaBottom"/>
            <a:pathLst>
              <a:path w="30140" h="21600">
                <a:moveTo>
                  <a:pt x="0" y="0"/>
                </a:moveTo>
                <a:lnTo>
                  <a:pt x="30140" y="0"/>
                </a:lnTo>
                <a:lnTo>
                  <a:pt x="30140" y="21600"/>
                </a:lnTo>
                <a:lnTo>
                  <a:pt x="0" y="21600"/>
                </a:lnTo>
                <a:close/>
              </a:path>
              <a:path fill="lightenLess" w="30140" h="21600">
                <a:moveTo>
                  <a:pt x="0" y="0"/>
                </a:moveTo>
                <a:lnTo>
                  <a:pt x="30140" y="0"/>
                </a:lnTo>
                <a:lnTo>
                  <a:pt x="28740" y="1400"/>
                </a:lnTo>
                <a:lnTo>
                  <a:pt x="1400" y="1400"/>
                </a:lnTo>
                <a:close/>
              </a:path>
              <a:path fill="darken" w="30140" h="21600">
                <a:moveTo>
                  <a:pt x="30140" y="0"/>
                </a:moveTo>
                <a:lnTo>
                  <a:pt x="30140" y="21600"/>
                </a:lnTo>
                <a:lnTo>
                  <a:pt x="28740" y="20200"/>
                </a:lnTo>
                <a:lnTo>
                  <a:pt x="28740" y="1400"/>
                </a:lnTo>
                <a:close/>
              </a:path>
              <a:path fill="darkenLess" w="30140" h="21600">
                <a:moveTo>
                  <a:pt x="301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40" y="20200"/>
                </a:lnTo>
                <a:close/>
              </a:path>
              <a:path fill="lighten" w="301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Give the full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efinition of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 physical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roperty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5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-5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omething tha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an be measured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r observed abou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n object withou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hanging its chemical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dentity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5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-5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>
            <a:hlinkClick r:id="rId2" action="ppaction://hlinksldjump"/>
          </p:cNvPr>
          <p:cNvSpPr/>
          <p:nvPr/>
        </p:nvSpPr>
        <p:spPr>
          <a:xfrm>
            <a:off x="0" y="0"/>
            <a:ext cx="9144000" cy="6553080"/>
          </a:xfrm>
          <a:custGeom>
            <a:avLst/>
            <a:gdLst>
              <a:gd name="textAreaLeft" fmla="*/ 424440 w 9144000"/>
              <a:gd name="textAreaRight" fmla="*/ 8719560 w 9144000"/>
              <a:gd name="textAreaTop" fmla="*/ 424440 h 6553080"/>
              <a:gd name="textAreaBottom" fmla="*/ 6128640 h 6553080"/>
            </a:gdLst>
            <a:ahLst/>
            <a:rect l="textAreaLeft" t="textAreaTop" r="textAreaRight" b="textAreaBottom"/>
            <a:pathLst>
              <a:path w="30140" h="21600">
                <a:moveTo>
                  <a:pt x="0" y="0"/>
                </a:moveTo>
                <a:lnTo>
                  <a:pt x="30140" y="0"/>
                </a:lnTo>
                <a:lnTo>
                  <a:pt x="30140" y="21600"/>
                </a:lnTo>
                <a:lnTo>
                  <a:pt x="0" y="21600"/>
                </a:lnTo>
                <a:close/>
              </a:path>
              <a:path fill="lightenLess" w="30140" h="21600">
                <a:moveTo>
                  <a:pt x="0" y="0"/>
                </a:moveTo>
                <a:lnTo>
                  <a:pt x="30140" y="0"/>
                </a:lnTo>
                <a:lnTo>
                  <a:pt x="28740" y="1400"/>
                </a:lnTo>
                <a:lnTo>
                  <a:pt x="1400" y="1400"/>
                </a:lnTo>
                <a:close/>
              </a:path>
              <a:path fill="darken" w="30140" h="21600">
                <a:moveTo>
                  <a:pt x="30140" y="0"/>
                </a:moveTo>
                <a:lnTo>
                  <a:pt x="30140" y="21600"/>
                </a:lnTo>
                <a:lnTo>
                  <a:pt x="28740" y="20200"/>
                </a:lnTo>
                <a:lnTo>
                  <a:pt x="28740" y="1400"/>
                </a:lnTo>
                <a:close/>
              </a:path>
              <a:path fill="darkenLess" w="30140" h="21600">
                <a:moveTo>
                  <a:pt x="301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40" y="20200"/>
                </a:lnTo>
                <a:close/>
              </a:path>
              <a:path fill="lighten" w="301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Name a step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f the scientific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ethod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1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2-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1447920" y="2590920"/>
            <a:ext cx="61722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hysical Properti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9067680" y="6781680"/>
            <a:ext cx="76320" cy="76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867" fill="hold"/>
                                        <p:tgtEl>
                                          <p:spTgt spid="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3867"/>
                            </p:stCondLst>
                            <p:childTnLst>
                              <p:par>
                                <p:cTn id="2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nswers may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vary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1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2-1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>
            <a:hlinkClick r:id="rId2" action="ppaction://hlinksldjump"/>
          </p:cNvPr>
          <p:cNvSpPr/>
          <p:nvPr/>
        </p:nvSpPr>
        <p:spPr>
          <a:xfrm>
            <a:off x="0" y="0"/>
            <a:ext cx="9144000" cy="6553080"/>
          </a:xfrm>
          <a:custGeom>
            <a:avLst/>
            <a:gdLst>
              <a:gd name="textAreaLeft" fmla="*/ 424440 w 9144000"/>
              <a:gd name="textAreaRight" fmla="*/ 8719560 w 9144000"/>
              <a:gd name="textAreaTop" fmla="*/ 424440 h 6553080"/>
              <a:gd name="textAreaBottom" fmla="*/ 6128640 h 6553080"/>
            </a:gdLst>
            <a:ahLst/>
            <a:rect l="textAreaLeft" t="textAreaTop" r="textAreaRight" b="textAreaBottom"/>
            <a:pathLst>
              <a:path w="30140" h="21600">
                <a:moveTo>
                  <a:pt x="0" y="0"/>
                </a:moveTo>
                <a:lnTo>
                  <a:pt x="30140" y="0"/>
                </a:lnTo>
                <a:lnTo>
                  <a:pt x="30140" y="21600"/>
                </a:lnTo>
                <a:lnTo>
                  <a:pt x="0" y="21600"/>
                </a:lnTo>
                <a:close/>
              </a:path>
              <a:path fill="lightenLess" w="30140" h="21600">
                <a:moveTo>
                  <a:pt x="0" y="0"/>
                </a:moveTo>
                <a:lnTo>
                  <a:pt x="30140" y="0"/>
                </a:lnTo>
                <a:lnTo>
                  <a:pt x="28740" y="1400"/>
                </a:lnTo>
                <a:lnTo>
                  <a:pt x="1400" y="1400"/>
                </a:lnTo>
                <a:close/>
              </a:path>
              <a:path fill="darken" w="30140" h="21600">
                <a:moveTo>
                  <a:pt x="30140" y="0"/>
                </a:moveTo>
                <a:lnTo>
                  <a:pt x="30140" y="21600"/>
                </a:lnTo>
                <a:lnTo>
                  <a:pt x="28740" y="20200"/>
                </a:lnTo>
                <a:lnTo>
                  <a:pt x="28740" y="1400"/>
                </a:lnTo>
                <a:close/>
              </a:path>
              <a:path fill="darkenLess" w="30140" h="21600">
                <a:moveTo>
                  <a:pt x="301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40" y="20200"/>
                </a:lnTo>
                <a:close/>
              </a:path>
              <a:path fill="lighten" w="301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y is making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bservation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mportant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2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2-2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nswers may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vary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2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2-2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>
            <a:hlinkClick r:id="rId2" action="ppaction://hlinksldjump"/>
          </p:cNvPr>
          <p:cNvSpPr/>
          <p:nvPr/>
        </p:nvSpPr>
        <p:spPr>
          <a:xfrm>
            <a:off x="152280" y="4648320"/>
            <a:ext cx="9144000" cy="6553080"/>
          </a:xfrm>
          <a:custGeom>
            <a:avLst/>
            <a:gdLst>
              <a:gd name="textAreaLeft" fmla="*/ 424440 w 9144000"/>
              <a:gd name="textAreaRight" fmla="*/ 8719560 w 9144000"/>
              <a:gd name="textAreaTop" fmla="*/ 424440 h 6553080"/>
              <a:gd name="textAreaBottom" fmla="*/ 6128640 h 6553080"/>
            </a:gdLst>
            <a:ahLst/>
            <a:rect l="textAreaLeft" t="textAreaTop" r="textAreaRight" b="textAreaBottom"/>
            <a:pathLst>
              <a:path w="30140" h="21600">
                <a:moveTo>
                  <a:pt x="0" y="0"/>
                </a:moveTo>
                <a:lnTo>
                  <a:pt x="30140" y="0"/>
                </a:lnTo>
                <a:lnTo>
                  <a:pt x="30140" y="21600"/>
                </a:lnTo>
                <a:lnTo>
                  <a:pt x="0" y="21600"/>
                </a:lnTo>
                <a:close/>
              </a:path>
              <a:path fill="lightenLess" w="30140" h="21600">
                <a:moveTo>
                  <a:pt x="0" y="0"/>
                </a:moveTo>
                <a:lnTo>
                  <a:pt x="30140" y="0"/>
                </a:lnTo>
                <a:lnTo>
                  <a:pt x="28740" y="1400"/>
                </a:lnTo>
                <a:lnTo>
                  <a:pt x="1400" y="1400"/>
                </a:lnTo>
                <a:close/>
              </a:path>
              <a:path fill="darken" w="30140" h="21600">
                <a:moveTo>
                  <a:pt x="30140" y="0"/>
                </a:moveTo>
                <a:lnTo>
                  <a:pt x="30140" y="21600"/>
                </a:lnTo>
                <a:lnTo>
                  <a:pt x="28740" y="20200"/>
                </a:lnTo>
                <a:lnTo>
                  <a:pt x="28740" y="1400"/>
                </a:lnTo>
                <a:close/>
              </a:path>
              <a:path fill="darkenLess" w="30140" h="21600">
                <a:moveTo>
                  <a:pt x="301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40" y="20200"/>
                </a:lnTo>
                <a:close/>
              </a:path>
              <a:path fill="lighten" w="301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y is data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nalysis important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3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2-3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nswers may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vary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3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2-3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>
            <a:hlinkClick r:id="rId2" action="ppaction://hlinksldjump"/>
          </p:cNvPr>
          <p:cNvSpPr/>
          <p:nvPr/>
        </p:nvSpPr>
        <p:spPr>
          <a:xfrm>
            <a:off x="0" y="304920"/>
            <a:ext cx="9144000" cy="6553080"/>
          </a:xfrm>
          <a:custGeom>
            <a:avLst/>
            <a:gdLst>
              <a:gd name="textAreaLeft" fmla="*/ 424440 w 9144000"/>
              <a:gd name="textAreaRight" fmla="*/ 8719560 w 9144000"/>
              <a:gd name="textAreaTop" fmla="*/ 424440 h 6553080"/>
              <a:gd name="textAreaBottom" fmla="*/ 6128640 h 6553080"/>
            </a:gdLst>
            <a:ahLst/>
            <a:rect l="textAreaLeft" t="textAreaTop" r="textAreaRight" b="textAreaBottom"/>
            <a:pathLst>
              <a:path w="30140" h="21600">
                <a:moveTo>
                  <a:pt x="0" y="0"/>
                </a:moveTo>
                <a:lnTo>
                  <a:pt x="30140" y="0"/>
                </a:lnTo>
                <a:lnTo>
                  <a:pt x="30140" y="21600"/>
                </a:lnTo>
                <a:lnTo>
                  <a:pt x="0" y="21600"/>
                </a:lnTo>
                <a:close/>
              </a:path>
              <a:path fill="lightenLess" w="30140" h="21600">
                <a:moveTo>
                  <a:pt x="0" y="0"/>
                </a:moveTo>
                <a:lnTo>
                  <a:pt x="30140" y="0"/>
                </a:lnTo>
                <a:lnTo>
                  <a:pt x="28740" y="1400"/>
                </a:lnTo>
                <a:lnTo>
                  <a:pt x="1400" y="1400"/>
                </a:lnTo>
                <a:close/>
              </a:path>
              <a:path fill="darken" w="30140" h="21600">
                <a:moveTo>
                  <a:pt x="30140" y="0"/>
                </a:moveTo>
                <a:lnTo>
                  <a:pt x="30140" y="21600"/>
                </a:lnTo>
                <a:lnTo>
                  <a:pt x="28740" y="20200"/>
                </a:lnTo>
                <a:lnTo>
                  <a:pt x="28740" y="1400"/>
                </a:lnTo>
                <a:close/>
              </a:path>
              <a:path fill="darkenLess" w="30140" h="21600">
                <a:moveTo>
                  <a:pt x="301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40" y="20200"/>
                </a:lnTo>
                <a:close/>
              </a:path>
              <a:path fill="lighten" w="301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y is th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ypothesi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mportant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4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2-4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nswers may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vary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4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2-4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>
            <a:hlinkClick r:id="rId2" action="ppaction://hlinksldjump"/>
          </p:cNvPr>
          <p:cNvSpPr/>
          <p:nvPr/>
        </p:nvSpPr>
        <p:spPr>
          <a:xfrm>
            <a:off x="0" y="304920"/>
            <a:ext cx="9144000" cy="6553080"/>
          </a:xfrm>
          <a:custGeom>
            <a:avLst/>
            <a:gdLst>
              <a:gd name="textAreaLeft" fmla="*/ 424440 w 9144000"/>
              <a:gd name="textAreaRight" fmla="*/ 8719560 w 9144000"/>
              <a:gd name="textAreaTop" fmla="*/ 424440 h 6553080"/>
              <a:gd name="textAreaBottom" fmla="*/ 6128640 h 6553080"/>
            </a:gdLst>
            <a:ahLst/>
            <a:rect l="textAreaLeft" t="textAreaTop" r="textAreaRight" b="textAreaBottom"/>
            <a:pathLst>
              <a:path w="30140" h="21600">
                <a:moveTo>
                  <a:pt x="0" y="0"/>
                </a:moveTo>
                <a:lnTo>
                  <a:pt x="30140" y="0"/>
                </a:lnTo>
                <a:lnTo>
                  <a:pt x="30140" y="21600"/>
                </a:lnTo>
                <a:lnTo>
                  <a:pt x="0" y="21600"/>
                </a:lnTo>
                <a:close/>
              </a:path>
              <a:path fill="lightenLess" w="30140" h="21600">
                <a:moveTo>
                  <a:pt x="0" y="0"/>
                </a:moveTo>
                <a:lnTo>
                  <a:pt x="30140" y="0"/>
                </a:lnTo>
                <a:lnTo>
                  <a:pt x="28740" y="1400"/>
                </a:lnTo>
                <a:lnTo>
                  <a:pt x="1400" y="1400"/>
                </a:lnTo>
                <a:close/>
              </a:path>
              <a:path fill="darken" w="30140" h="21600">
                <a:moveTo>
                  <a:pt x="30140" y="0"/>
                </a:moveTo>
                <a:lnTo>
                  <a:pt x="30140" y="21600"/>
                </a:lnTo>
                <a:lnTo>
                  <a:pt x="28740" y="20200"/>
                </a:lnTo>
                <a:lnTo>
                  <a:pt x="28740" y="1400"/>
                </a:lnTo>
                <a:close/>
              </a:path>
              <a:path fill="darkenLess" w="30140" h="21600">
                <a:moveTo>
                  <a:pt x="301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40" y="20200"/>
                </a:lnTo>
                <a:close/>
              </a:path>
              <a:path fill="lighten" w="301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ing a song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bout th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cientific method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5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2-5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nswers will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efinitely vary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5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2-5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>
            <a:hlinkClick r:id="rId2" action="ppaction://hlinksldjump"/>
          </p:cNvPr>
          <p:cNvSpPr/>
          <p:nvPr/>
        </p:nvSpPr>
        <p:spPr>
          <a:xfrm>
            <a:off x="0" y="3124080"/>
            <a:ext cx="9144000" cy="6553440"/>
          </a:xfrm>
          <a:custGeom>
            <a:avLst/>
            <a:gdLst>
              <a:gd name="textAreaLeft" fmla="*/ 424440 w 9144000"/>
              <a:gd name="textAreaRight" fmla="*/ 8719560 w 9144000"/>
              <a:gd name="textAreaTop" fmla="*/ 424440 h 6553440"/>
              <a:gd name="textAreaBottom" fmla="*/ 6129000 h 6553440"/>
            </a:gdLst>
            <a:ahLst/>
            <a:rect l="textAreaLeft" t="textAreaTop" r="textAreaRight" b="textAreaBottom"/>
            <a:pathLst>
              <a:path w="30138" h="21600">
                <a:moveTo>
                  <a:pt x="0" y="0"/>
                </a:moveTo>
                <a:lnTo>
                  <a:pt x="30138" y="0"/>
                </a:lnTo>
                <a:lnTo>
                  <a:pt x="30138" y="21600"/>
                </a:lnTo>
                <a:lnTo>
                  <a:pt x="0" y="21600"/>
                </a:lnTo>
                <a:close/>
              </a:path>
              <a:path fill="lightenLess" w="30138" h="21600">
                <a:moveTo>
                  <a:pt x="0" y="0"/>
                </a:moveTo>
                <a:lnTo>
                  <a:pt x="30138" y="0"/>
                </a:lnTo>
                <a:lnTo>
                  <a:pt x="28738" y="1400"/>
                </a:lnTo>
                <a:lnTo>
                  <a:pt x="1400" y="1400"/>
                </a:lnTo>
                <a:close/>
              </a:path>
              <a:path fill="darken" w="30138" h="21600">
                <a:moveTo>
                  <a:pt x="30138" y="0"/>
                </a:moveTo>
                <a:lnTo>
                  <a:pt x="30138" y="21600"/>
                </a:lnTo>
                <a:lnTo>
                  <a:pt x="28738" y="20200"/>
                </a:lnTo>
                <a:lnTo>
                  <a:pt x="28738" y="1400"/>
                </a:lnTo>
                <a:close/>
              </a:path>
              <a:path fill="darkenLess" w="30138" h="21600">
                <a:moveTo>
                  <a:pt x="301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38" y="20200"/>
                </a:lnTo>
                <a:close/>
              </a:path>
              <a:path fill="lighten" w="301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ere are six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mportant part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f a hypothesis,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name 2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1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3-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1447920" y="2590920"/>
            <a:ext cx="61722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e Scientific Method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f [independent variable]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hanges, then [dependen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variable] changes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1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3-1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>
            <a:hlinkClick r:id="rId2" action="ppaction://hlinksldjump"/>
          </p:cNvPr>
          <p:cNvSpPr/>
          <p:nvPr/>
        </p:nvSpPr>
        <p:spPr>
          <a:xfrm>
            <a:off x="0" y="0"/>
            <a:ext cx="9144000" cy="6553080"/>
          </a:xfrm>
          <a:custGeom>
            <a:avLst/>
            <a:gdLst>
              <a:gd name="textAreaLeft" fmla="*/ 424440 w 9144000"/>
              <a:gd name="textAreaRight" fmla="*/ 8719560 w 9144000"/>
              <a:gd name="textAreaTop" fmla="*/ 424440 h 6553080"/>
              <a:gd name="textAreaBottom" fmla="*/ 6128640 h 6553080"/>
            </a:gdLst>
            <a:ahLst/>
            <a:rect l="textAreaLeft" t="textAreaTop" r="textAreaRight" b="textAreaBottom"/>
            <a:pathLst>
              <a:path w="30140" h="21600">
                <a:moveTo>
                  <a:pt x="0" y="0"/>
                </a:moveTo>
                <a:lnTo>
                  <a:pt x="30140" y="0"/>
                </a:lnTo>
                <a:lnTo>
                  <a:pt x="30140" y="21600"/>
                </a:lnTo>
                <a:lnTo>
                  <a:pt x="0" y="21600"/>
                </a:lnTo>
                <a:close/>
              </a:path>
              <a:path fill="lightenLess" w="30140" h="21600">
                <a:moveTo>
                  <a:pt x="0" y="0"/>
                </a:moveTo>
                <a:lnTo>
                  <a:pt x="30140" y="0"/>
                </a:lnTo>
                <a:lnTo>
                  <a:pt x="28740" y="1400"/>
                </a:lnTo>
                <a:lnTo>
                  <a:pt x="1400" y="1400"/>
                </a:lnTo>
                <a:close/>
              </a:path>
              <a:path fill="darken" w="30140" h="21600">
                <a:moveTo>
                  <a:pt x="30140" y="0"/>
                </a:moveTo>
                <a:lnTo>
                  <a:pt x="30140" y="21600"/>
                </a:lnTo>
                <a:lnTo>
                  <a:pt x="28740" y="20200"/>
                </a:lnTo>
                <a:lnTo>
                  <a:pt x="28740" y="1400"/>
                </a:lnTo>
                <a:close/>
              </a:path>
              <a:path fill="darkenLess" w="30140" h="21600">
                <a:moveTo>
                  <a:pt x="301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40" y="20200"/>
                </a:lnTo>
                <a:close/>
              </a:path>
              <a:path fill="lighten" w="301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Give a hypothesis fo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e following question: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oes the grass grow fast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f there is more sunlight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2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3-2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f there is mo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nlight, then th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grass will grow faster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2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3-2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>
            <a:hlinkClick r:id="rId2" action="ppaction://hlinksldjump"/>
          </p:cNvPr>
          <p:cNvSpPr/>
          <p:nvPr/>
        </p:nvSpPr>
        <p:spPr>
          <a:xfrm>
            <a:off x="0" y="0"/>
            <a:ext cx="9144000" cy="6553080"/>
          </a:xfrm>
          <a:custGeom>
            <a:avLst/>
            <a:gdLst>
              <a:gd name="textAreaLeft" fmla="*/ 424440 w 9144000"/>
              <a:gd name="textAreaRight" fmla="*/ 8719560 w 9144000"/>
              <a:gd name="textAreaTop" fmla="*/ 424440 h 6553080"/>
              <a:gd name="textAreaBottom" fmla="*/ 6128640 h 6553080"/>
            </a:gdLst>
            <a:ahLst/>
            <a:rect l="textAreaLeft" t="textAreaTop" r="textAreaRight" b="textAreaBottom"/>
            <a:pathLst>
              <a:path w="30140" h="21600">
                <a:moveTo>
                  <a:pt x="0" y="0"/>
                </a:moveTo>
                <a:lnTo>
                  <a:pt x="30140" y="0"/>
                </a:lnTo>
                <a:lnTo>
                  <a:pt x="30140" y="21600"/>
                </a:lnTo>
                <a:lnTo>
                  <a:pt x="0" y="21600"/>
                </a:lnTo>
                <a:close/>
              </a:path>
              <a:path fill="lightenLess" w="30140" h="21600">
                <a:moveTo>
                  <a:pt x="0" y="0"/>
                </a:moveTo>
                <a:lnTo>
                  <a:pt x="30140" y="0"/>
                </a:lnTo>
                <a:lnTo>
                  <a:pt x="28740" y="1400"/>
                </a:lnTo>
                <a:lnTo>
                  <a:pt x="1400" y="1400"/>
                </a:lnTo>
                <a:close/>
              </a:path>
              <a:path fill="darken" w="30140" h="21600">
                <a:moveTo>
                  <a:pt x="30140" y="0"/>
                </a:moveTo>
                <a:lnTo>
                  <a:pt x="30140" y="21600"/>
                </a:lnTo>
                <a:lnTo>
                  <a:pt x="28740" y="20200"/>
                </a:lnTo>
                <a:lnTo>
                  <a:pt x="28740" y="1400"/>
                </a:lnTo>
                <a:close/>
              </a:path>
              <a:path fill="darkenLess" w="30140" h="21600">
                <a:moveTo>
                  <a:pt x="301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40" y="20200"/>
                </a:lnTo>
                <a:close/>
              </a:path>
              <a:path fill="lighten" w="301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Give a hypothesis fo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e following question: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ill the spaceship fly fast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f the crew brings lots of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eanut butter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3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3-3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f the crew bring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ore peanut butter,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en the ship will fly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lower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3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3-3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>
            <a:hlinkClick r:id="rId2" action="ppaction://hlinksldjump"/>
          </p:cNvPr>
          <p:cNvSpPr/>
          <p:nvPr/>
        </p:nvSpPr>
        <p:spPr>
          <a:xfrm>
            <a:off x="0" y="0"/>
            <a:ext cx="9144000" cy="6553080"/>
          </a:xfrm>
          <a:custGeom>
            <a:avLst/>
            <a:gdLst>
              <a:gd name="textAreaLeft" fmla="*/ 424440 w 9144000"/>
              <a:gd name="textAreaRight" fmla="*/ 8719560 w 9144000"/>
              <a:gd name="textAreaTop" fmla="*/ 424440 h 6553080"/>
              <a:gd name="textAreaBottom" fmla="*/ 6128640 h 6553080"/>
            </a:gdLst>
            <a:ahLst/>
            <a:rect l="textAreaLeft" t="textAreaTop" r="textAreaRight" b="textAreaBottom"/>
            <a:pathLst>
              <a:path w="30140" h="21600">
                <a:moveTo>
                  <a:pt x="0" y="0"/>
                </a:moveTo>
                <a:lnTo>
                  <a:pt x="30140" y="0"/>
                </a:lnTo>
                <a:lnTo>
                  <a:pt x="30140" y="21600"/>
                </a:lnTo>
                <a:lnTo>
                  <a:pt x="0" y="21600"/>
                </a:lnTo>
                <a:close/>
              </a:path>
              <a:path fill="lightenLess" w="30140" h="21600">
                <a:moveTo>
                  <a:pt x="0" y="0"/>
                </a:moveTo>
                <a:lnTo>
                  <a:pt x="30140" y="0"/>
                </a:lnTo>
                <a:lnTo>
                  <a:pt x="28740" y="1400"/>
                </a:lnTo>
                <a:lnTo>
                  <a:pt x="1400" y="1400"/>
                </a:lnTo>
                <a:close/>
              </a:path>
              <a:path fill="darken" w="30140" h="21600">
                <a:moveTo>
                  <a:pt x="30140" y="0"/>
                </a:moveTo>
                <a:lnTo>
                  <a:pt x="30140" y="21600"/>
                </a:lnTo>
                <a:lnTo>
                  <a:pt x="28740" y="20200"/>
                </a:lnTo>
                <a:lnTo>
                  <a:pt x="28740" y="1400"/>
                </a:lnTo>
                <a:close/>
              </a:path>
              <a:path fill="darkenLess" w="30140" h="21600">
                <a:moveTo>
                  <a:pt x="301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40" y="20200"/>
                </a:lnTo>
                <a:close/>
              </a:path>
              <a:path fill="lighten" w="301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Give a hypothesis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for the following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cenario: Jackson was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ired, very tired, so h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rank a 5 hour energy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 started drinking a lo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f 5 hour energies, but then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 also started feeling sick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4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3-4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f Jackson drinks mo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5 hour energies, then h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ill be less healthy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4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3-4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>
            <a:hlinkClick r:id="rId2" action="ppaction://hlinksldjump"/>
          </p:cNvPr>
          <p:cNvSpPr/>
          <p:nvPr/>
        </p:nvSpPr>
        <p:spPr>
          <a:xfrm>
            <a:off x="0" y="0"/>
            <a:ext cx="9144000" cy="6553080"/>
          </a:xfrm>
          <a:custGeom>
            <a:avLst/>
            <a:gdLst>
              <a:gd name="textAreaLeft" fmla="*/ 424440 w 9144000"/>
              <a:gd name="textAreaRight" fmla="*/ 8719560 w 9144000"/>
              <a:gd name="textAreaTop" fmla="*/ 424440 h 6553080"/>
              <a:gd name="textAreaBottom" fmla="*/ 6128640 h 6553080"/>
            </a:gdLst>
            <a:ahLst/>
            <a:rect l="textAreaLeft" t="textAreaTop" r="textAreaRight" b="textAreaBottom"/>
            <a:pathLst>
              <a:path w="30140" h="21600">
                <a:moveTo>
                  <a:pt x="0" y="0"/>
                </a:moveTo>
                <a:lnTo>
                  <a:pt x="30140" y="0"/>
                </a:lnTo>
                <a:lnTo>
                  <a:pt x="30140" y="21600"/>
                </a:lnTo>
                <a:lnTo>
                  <a:pt x="0" y="21600"/>
                </a:lnTo>
                <a:close/>
              </a:path>
              <a:path fill="lightenLess" w="30140" h="21600">
                <a:moveTo>
                  <a:pt x="0" y="0"/>
                </a:moveTo>
                <a:lnTo>
                  <a:pt x="30140" y="0"/>
                </a:lnTo>
                <a:lnTo>
                  <a:pt x="28740" y="1400"/>
                </a:lnTo>
                <a:lnTo>
                  <a:pt x="1400" y="1400"/>
                </a:lnTo>
                <a:close/>
              </a:path>
              <a:path fill="darken" w="30140" h="21600">
                <a:moveTo>
                  <a:pt x="30140" y="0"/>
                </a:moveTo>
                <a:lnTo>
                  <a:pt x="30140" y="21600"/>
                </a:lnTo>
                <a:lnTo>
                  <a:pt x="28740" y="20200"/>
                </a:lnTo>
                <a:lnTo>
                  <a:pt x="28740" y="1400"/>
                </a:lnTo>
                <a:close/>
              </a:path>
              <a:path fill="darkenLess" w="30140" h="21600">
                <a:moveTo>
                  <a:pt x="301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40" y="20200"/>
                </a:lnTo>
                <a:close/>
              </a:path>
              <a:path fill="lighten" w="301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Give a hypothesis: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Johnson thought tha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e president was telling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ies, so he went to th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reporter. The report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ondered if Johnson was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elling the truth. This would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effect if she wrote a story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5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3-5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f Johnson i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elling the truth,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en the reporter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ill write the story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5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3-5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>
            <a:hlinkClick r:id="rId2" action="ppaction://hlinksldjump"/>
          </p:cNvPr>
          <p:cNvSpPr/>
          <p:nvPr/>
        </p:nvSpPr>
        <p:spPr>
          <a:xfrm>
            <a:off x="0" y="0"/>
            <a:ext cx="9144000" cy="6553080"/>
          </a:xfrm>
          <a:custGeom>
            <a:avLst/>
            <a:gdLst>
              <a:gd name="textAreaLeft" fmla="*/ 424440 w 9144000"/>
              <a:gd name="textAreaRight" fmla="*/ 8719560 w 9144000"/>
              <a:gd name="textAreaTop" fmla="*/ 424440 h 6553080"/>
              <a:gd name="textAreaBottom" fmla="*/ 6128640 h 6553080"/>
            </a:gdLst>
            <a:ahLst/>
            <a:rect l="textAreaLeft" t="textAreaTop" r="textAreaRight" b="textAreaBottom"/>
            <a:pathLst>
              <a:path w="30140" h="21600">
                <a:moveTo>
                  <a:pt x="0" y="0"/>
                </a:moveTo>
                <a:lnTo>
                  <a:pt x="30140" y="0"/>
                </a:lnTo>
                <a:lnTo>
                  <a:pt x="30140" y="21600"/>
                </a:lnTo>
                <a:lnTo>
                  <a:pt x="0" y="21600"/>
                </a:lnTo>
                <a:close/>
              </a:path>
              <a:path fill="lightenLess" w="30140" h="21600">
                <a:moveTo>
                  <a:pt x="0" y="0"/>
                </a:moveTo>
                <a:lnTo>
                  <a:pt x="30140" y="0"/>
                </a:lnTo>
                <a:lnTo>
                  <a:pt x="28740" y="1400"/>
                </a:lnTo>
                <a:lnTo>
                  <a:pt x="1400" y="1400"/>
                </a:lnTo>
                <a:close/>
              </a:path>
              <a:path fill="darken" w="30140" h="21600">
                <a:moveTo>
                  <a:pt x="30140" y="0"/>
                </a:moveTo>
                <a:lnTo>
                  <a:pt x="30140" y="21600"/>
                </a:lnTo>
                <a:lnTo>
                  <a:pt x="28740" y="20200"/>
                </a:lnTo>
                <a:lnTo>
                  <a:pt x="28740" y="1400"/>
                </a:lnTo>
                <a:close/>
              </a:path>
              <a:path fill="darkenLess" w="30140" h="21600">
                <a:moveTo>
                  <a:pt x="301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40" y="20200"/>
                </a:lnTo>
                <a:close/>
              </a:path>
              <a:path fill="lighten" w="301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625840" y="1949400"/>
            <a:ext cx="183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is a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variable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1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4-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1447920" y="2590920"/>
            <a:ext cx="61722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aking a Hypothesi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omething tha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hanges in an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experiment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1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4-1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>
            <a:hlinkClick r:id="rId2" action="ppaction://hlinksldjump"/>
          </p:cNvPr>
          <p:cNvSpPr/>
          <p:nvPr/>
        </p:nvSpPr>
        <p:spPr>
          <a:xfrm>
            <a:off x="152280" y="3733920"/>
            <a:ext cx="9144000" cy="6553080"/>
          </a:xfrm>
          <a:custGeom>
            <a:avLst/>
            <a:gdLst>
              <a:gd name="textAreaLeft" fmla="*/ 424440 w 9144000"/>
              <a:gd name="textAreaRight" fmla="*/ 8719560 w 9144000"/>
              <a:gd name="textAreaTop" fmla="*/ 424440 h 6553080"/>
              <a:gd name="textAreaBottom" fmla="*/ 6128640 h 6553080"/>
            </a:gdLst>
            <a:ahLst/>
            <a:rect l="textAreaLeft" t="textAreaTop" r="textAreaRight" b="textAreaBottom"/>
            <a:pathLst>
              <a:path w="30140" h="21600">
                <a:moveTo>
                  <a:pt x="0" y="0"/>
                </a:moveTo>
                <a:lnTo>
                  <a:pt x="30140" y="0"/>
                </a:lnTo>
                <a:lnTo>
                  <a:pt x="30140" y="21600"/>
                </a:lnTo>
                <a:lnTo>
                  <a:pt x="0" y="21600"/>
                </a:lnTo>
                <a:close/>
              </a:path>
              <a:path fill="lightenLess" w="30140" h="21600">
                <a:moveTo>
                  <a:pt x="0" y="0"/>
                </a:moveTo>
                <a:lnTo>
                  <a:pt x="30140" y="0"/>
                </a:lnTo>
                <a:lnTo>
                  <a:pt x="28740" y="1400"/>
                </a:lnTo>
                <a:lnTo>
                  <a:pt x="1400" y="1400"/>
                </a:lnTo>
                <a:close/>
              </a:path>
              <a:path fill="darken" w="30140" h="21600">
                <a:moveTo>
                  <a:pt x="30140" y="0"/>
                </a:moveTo>
                <a:lnTo>
                  <a:pt x="30140" y="21600"/>
                </a:lnTo>
                <a:lnTo>
                  <a:pt x="28740" y="20200"/>
                </a:lnTo>
                <a:lnTo>
                  <a:pt x="28740" y="1400"/>
                </a:lnTo>
                <a:close/>
              </a:path>
              <a:path fill="darkenLess" w="30140" h="21600">
                <a:moveTo>
                  <a:pt x="301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40" y="20200"/>
                </a:lnTo>
                <a:close/>
              </a:path>
              <a:path fill="lighten" w="301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ich variabl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oes the scientis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hange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2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4-2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e independen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variable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2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4-2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>
            <a:hlinkClick r:id="rId2" action="ppaction://hlinksldjump"/>
          </p:cNvPr>
          <p:cNvSpPr/>
          <p:nvPr/>
        </p:nvSpPr>
        <p:spPr>
          <a:xfrm>
            <a:off x="0" y="0"/>
            <a:ext cx="9144000" cy="6553080"/>
          </a:xfrm>
          <a:custGeom>
            <a:avLst/>
            <a:gdLst>
              <a:gd name="textAreaLeft" fmla="*/ 424440 w 9144000"/>
              <a:gd name="textAreaRight" fmla="*/ 8719560 w 9144000"/>
              <a:gd name="textAreaTop" fmla="*/ 424440 h 6553080"/>
              <a:gd name="textAreaBottom" fmla="*/ 6128640 h 6553080"/>
            </a:gdLst>
            <a:ahLst/>
            <a:rect l="textAreaLeft" t="textAreaTop" r="textAreaRight" b="textAreaBottom"/>
            <a:pathLst>
              <a:path w="30140" h="21600">
                <a:moveTo>
                  <a:pt x="0" y="0"/>
                </a:moveTo>
                <a:lnTo>
                  <a:pt x="30140" y="0"/>
                </a:lnTo>
                <a:lnTo>
                  <a:pt x="30140" y="21600"/>
                </a:lnTo>
                <a:lnTo>
                  <a:pt x="0" y="21600"/>
                </a:lnTo>
                <a:close/>
              </a:path>
              <a:path fill="lightenLess" w="30140" h="21600">
                <a:moveTo>
                  <a:pt x="0" y="0"/>
                </a:moveTo>
                <a:lnTo>
                  <a:pt x="30140" y="0"/>
                </a:lnTo>
                <a:lnTo>
                  <a:pt x="28740" y="1400"/>
                </a:lnTo>
                <a:lnTo>
                  <a:pt x="1400" y="1400"/>
                </a:lnTo>
                <a:close/>
              </a:path>
              <a:path fill="darken" w="30140" h="21600">
                <a:moveTo>
                  <a:pt x="30140" y="0"/>
                </a:moveTo>
                <a:lnTo>
                  <a:pt x="30140" y="21600"/>
                </a:lnTo>
                <a:lnTo>
                  <a:pt x="28740" y="20200"/>
                </a:lnTo>
                <a:lnTo>
                  <a:pt x="28740" y="1400"/>
                </a:lnTo>
                <a:close/>
              </a:path>
              <a:path fill="darkenLess" w="30140" h="21600">
                <a:moveTo>
                  <a:pt x="301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40" y="20200"/>
                </a:lnTo>
                <a:close/>
              </a:path>
              <a:path fill="lighten" w="301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1 or 2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1. The dependent depend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n the independent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2. The independent depend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n the dependent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3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4-3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1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3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4-3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0" y="152280"/>
            <a:ext cx="9144000" cy="6553440"/>
          </a:xfrm>
          <a:custGeom>
            <a:avLst/>
            <a:gdLst>
              <a:gd name="textAreaLeft" fmla="*/ 424440 w 9144000"/>
              <a:gd name="textAreaRight" fmla="*/ 8719560 w 9144000"/>
              <a:gd name="textAreaTop" fmla="*/ 424440 h 6553440"/>
              <a:gd name="textAreaBottom" fmla="*/ 6129000 h 6553440"/>
            </a:gdLst>
            <a:ahLst/>
            <a:rect l="textAreaLeft" t="textAreaTop" r="textAreaRight" b="textAreaBottom"/>
            <a:pathLst>
              <a:path w="30138" h="21600">
                <a:moveTo>
                  <a:pt x="0" y="0"/>
                </a:moveTo>
                <a:lnTo>
                  <a:pt x="30138" y="0"/>
                </a:lnTo>
                <a:lnTo>
                  <a:pt x="30138" y="21600"/>
                </a:lnTo>
                <a:lnTo>
                  <a:pt x="0" y="21600"/>
                </a:lnTo>
                <a:close/>
              </a:path>
              <a:path fill="lightenLess" w="30138" h="21600">
                <a:moveTo>
                  <a:pt x="0" y="0"/>
                </a:moveTo>
                <a:lnTo>
                  <a:pt x="30138" y="0"/>
                </a:lnTo>
                <a:lnTo>
                  <a:pt x="28738" y="1400"/>
                </a:lnTo>
                <a:lnTo>
                  <a:pt x="1400" y="1400"/>
                </a:lnTo>
                <a:close/>
              </a:path>
              <a:path fill="darken" w="30138" h="21600">
                <a:moveTo>
                  <a:pt x="30138" y="0"/>
                </a:moveTo>
                <a:lnTo>
                  <a:pt x="30138" y="21600"/>
                </a:lnTo>
                <a:lnTo>
                  <a:pt x="28738" y="20200"/>
                </a:lnTo>
                <a:lnTo>
                  <a:pt x="28738" y="1400"/>
                </a:lnTo>
                <a:close/>
              </a:path>
              <a:path fill="darkenLess" w="30138" h="21600">
                <a:moveTo>
                  <a:pt x="301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38" y="20200"/>
                </a:lnTo>
                <a:close/>
              </a:path>
              <a:path fill="lighten" w="301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is the independen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variable for the following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question: Isreal wondered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f time sleeping in class is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related to his grades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4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4-4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ime sleeping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4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4-4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0" y="0"/>
            <a:ext cx="9144000" cy="6553080"/>
          </a:xfrm>
          <a:custGeom>
            <a:avLst/>
            <a:gdLst>
              <a:gd name="textAreaLeft" fmla="*/ 424440 w 9144000"/>
              <a:gd name="textAreaRight" fmla="*/ 8719560 w 9144000"/>
              <a:gd name="textAreaTop" fmla="*/ 424440 h 6553080"/>
              <a:gd name="textAreaBottom" fmla="*/ 6128640 h 6553080"/>
            </a:gdLst>
            <a:ahLst/>
            <a:rect l="textAreaLeft" t="textAreaTop" r="textAreaRight" b="textAreaBottom"/>
            <a:pathLst>
              <a:path w="30140" h="21600">
                <a:moveTo>
                  <a:pt x="0" y="0"/>
                </a:moveTo>
                <a:lnTo>
                  <a:pt x="30140" y="0"/>
                </a:lnTo>
                <a:lnTo>
                  <a:pt x="30140" y="21600"/>
                </a:lnTo>
                <a:lnTo>
                  <a:pt x="0" y="21600"/>
                </a:lnTo>
                <a:close/>
              </a:path>
              <a:path fill="lightenLess" w="30140" h="21600">
                <a:moveTo>
                  <a:pt x="0" y="0"/>
                </a:moveTo>
                <a:lnTo>
                  <a:pt x="30140" y="0"/>
                </a:lnTo>
                <a:lnTo>
                  <a:pt x="28740" y="1400"/>
                </a:lnTo>
                <a:lnTo>
                  <a:pt x="1400" y="1400"/>
                </a:lnTo>
                <a:close/>
              </a:path>
              <a:path fill="darken" w="30140" h="21600">
                <a:moveTo>
                  <a:pt x="30140" y="0"/>
                </a:moveTo>
                <a:lnTo>
                  <a:pt x="30140" y="21600"/>
                </a:lnTo>
                <a:lnTo>
                  <a:pt x="28740" y="20200"/>
                </a:lnTo>
                <a:lnTo>
                  <a:pt x="28740" y="1400"/>
                </a:lnTo>
                <a:close/>
              </a:path>
              <a:path fill="darkenLess" w="30140" h="21600">
                <a:moveTo>
                  <a:pt x="301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40" y="20200"/>
                </a:lnTo>
                <a:close/>
              </a:path>
              <a:path fill="lighten" w="301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is the dependen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variable: Nate had two dogs: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alie and Gizmo, h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ondered if how much they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rank was related to how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any times they peed on th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floor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5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4-5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Number of tim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eed on floor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5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4-5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0" y="3809880"/>
            <a:ext cx="9144000" cy="6553440"/>
          </a:xfrm>
          <a:custGeom>
            <a:avLst/>
            <a:gdLst>
              <a:gd name="textAreaLeft" fmla="*/ 424440 w 9144000"/>
              <a:gd name="textAreaRight" fmla="*/ 8719560 w 9144000"/>
              <a:gd name="textAreaTop" fmla="*/ 424440 h 6553440"/>
              <a:gd name="textAreaBottom" fmla="*/ 6129000 h 6553440"/>
            </a:gdLst>
            <a:ahLst/>
            <a:rect l="textAreaLeft" t="textAreaTop" r="textAreaRight" b="textAreaBottom"/>
            <a:pathLst>
              <a:path w="30138" h="21600">
                <a:moveTo>
                  <a:pt x="0" y="0"/>
                </a:moveTo>
                <a:lnTo>
                  <a:pt x="30138" y="0"/>
                </a:lnTo>
                <a:lnTo>
                  <a:pt x="30138" y="21600"/>
                </a:lnTo>
                <a:lnTo>
                  <a:pt x="0" y="21600"/>
                </a:lnTo>
                <a:close/>
              </a:path>
              <a:path fill="lightenLess" w="30138" h="21600">
                <a:moveTo>
                  <a:pt x="0" y="0"/>
                </a:moveTo>
                <a:lnTo>
                  <a:pt x="30138" y="0"/>
                </a:lnTo>
                <a:lnTo>
                  <a:pt x="28738" y="1400"/>
                </a:lnTo>
                <a:lnTo>
                  <a:pt x="1400" y="1400"/>
                </a:lnTo>
                <a:close/>
              </a:path>
              <a:path fill="darken" w="30138" h="21600">
                <a:moveTo>
                  <a:pt x="30138" y="0"/>
                </a:moveTo>
                <a:lnTo>
                  <a:pt x="30138" y="21600"/>
                </a:lnTo>
                <a:lnTo>
                  <a:pt x="28738" y="20200"/>
                </a:lnTo>
                <a:lnTo>
                  <a:pt x="28738" y="1400"/>
                </a:lnTo>
                <a:close/>
              </a:path>
              <a:path fill="darkenLess" w="30138" h="21600">
                <a:moveTo>
                  <a:pt x="301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38" y="20200"/>
                </a:lnTo>
                <a:close/>
              </a:path>
              <a:path fill="lighten" w="301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Give an example of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 physical change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1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5-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1447920" y="2590920"/>
            <a:ext cx="61722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ndependent, or dependent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at is the question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nswers may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vary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1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5-1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0" y="0"/>
            <a:ext cx="9144000" cy="6553080"/>
          </a:xfrm>
          <a:custGeom>
            <a:avLst/>
            <a:gdLst>
              <a:gd name="textAreaLeft" fmla="*/ 424440 w 9144000"/>
              <a:gd name="textAreaRight" fmla="*/ 8719560 w 9144000"/>
              <a:gd name="textAreaTop" fmla="*/ 424440 h 6553080"/>
              <a:gd name="textAreaBottom" fmla="*/ 6128640 h 6553080"/>
            </a:gdLst>
            <a:ahLst/>
            <a:rect l="textAreaLeft" t="textAreaTop" r="textAreaRight" b="textAreaBottom"/>
            <a:pathLst>
              <a:path w="30140" h="21600">
                <a:moveTo>
                  <a:pt x="0" y="0"/>
                </a:moveTo>
                <a:lnTo>
                  <a:pt x="30140" y="0"/>
                </a:lnTo>
                <a:lnTo>
                  <a:pt x="30140" y="21600"/>
                </a:lnTo>
                <a:lnTo>
                  <a:pt x="0" y="21600"/>
                </a:lnTo>
                <a:close/>
              </a:path>
              <a:path fill="lightenLess" w="30140" h="21600">
                <a:moveTo>
                  <a:pt x="0" y="0"/>
                </a:moveTo>
                <a:lnTo>
                  <a:pt x="30140" y="0"/>
                </a:lnTo>
                <a:lnTo>
                  <a:pt x="28740" y="1400"/>
                </a:lnTo>
                <a:lnTo>
                  <a:pt x="1400" y="1400"/>
                </a:lnTo>
                <a:close/>
              </a:path>
              <a:path fill="darken" w="30140" h="21600">
                <a:moveTo>
                  <a:pt x="30140" y="0"/>
                </a:moveTo>
                <a:lnTo>
                  <a:pt x="30140" y="21600"/>
                </a:lnTo>
                <a:lnTo>
                  <a:pt x="28740" y="20200"/>
                </a:lnTo>
                <a:lnTo>
                  <a:pt x="28740" y="1400"/>
                </a:lnTo>
                <a:close/>
              </a:path>
              <a:path fill="darkenLess" w="30140" h="21600">
                <a:moveTo>
                  <a:pt x="301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40" y="20200"/>
                </a:lnTo>
                <a:close/>
              </a:path>
              <a:path fill="lighten" w="301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is 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hysical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hange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2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5-2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 change that do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not change the chemical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dentity. Normally they a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reversible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2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5-2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0" y="0"/>
            <a:ext cx="9144000" cy="6553080"/>
          </a:xfrm>
          <a:custGeom>
            <a:avLst/>
            <a:gdLst>
              <a:gd name="textAreaLeft" fmla="*/ 424440 w 9144000"/>
              <a:gd name="textAreaRight" fmla="*/ 8719560 w 9144000"/>
              <a:gd name="textAreaTop" fmla="*/ 424440 h 6553080"/>
              <a:gd name="textAreaBottom" fmla="*/ 6128640 h 6553080"/>
            </a:gdLst>
            <a:ahLst/>
            <a:rect l="textAreaLeft" t="textAreaTop" r="textAreaRight" b="textAreaBottom"/>
            <a:pathLst>
              <a:path w="30140" h="21600">
                <a:moveTo>
                  <a:pt x="0" y="0"/>
                </a:moveTo>
                <a:lnTo>
                  <a:pt x="30140" y="0"/>
                </a:lnTo>
                <a:lnTo>
                  <a:pt x="30140" y="21600"/>
                </a:lnTo>
                <a:lnTo>
                  <a:pt x="0" y="21600"/>
                </a:lnTo>
                <a:close/>
              </a:path>
              <a:path fill="lightenLess" w="30140" h="21600">
                <a:moveTo>
                  <a:pt x="0" y="0"/>
                </a:moveTo>
                <a:lnTo>
                  <a:pt x="30140" y="0"/>
                </a:lnTo>
                <a:lnTo>
                  <a:pt x="28740" y="1400"/>
                </a:lnTo>
                <a:lnTo>
                  <a:pt x="1400" y="1400"/>
                </a:lnTo>
                <a:close/>
              </a:path>
              <a:path fill="darken" w="30140" h="21600">
                <a:moveTo>
                  <a:pt x="30140" y="0"/>
                </a:moveTo>
                <a:lnTo>
                  <a:pt x="30140" y="21600"/>
                </a:lnTo>
                <a:lnTo>
                  <a:pt x="28740" y="20200"/>
                </a:lnTo>
                <a:lnTo>
                  <a:pt x="28740" y="1400"/>
                </a:lnTo>
                <a:close/>
              </a:path>
              <a:path fill="darkenLess" w="30140" h="21600">
                <a:moveTo>
                  <a:pt x="301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40" y="20200"/>
                </a:lnTo>
                <a:close/>
              </a:path>
              <a:path fill="lighten" w="301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You spread peanu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butter on a slice of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bread. Explain why thi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as a physical change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3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5-3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e chemical identity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f the peanut butter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id not change. You still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ave peanut butter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3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5-3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0" y="0"/>
            <a:ext cx="9144000" cy="6553080"/>
          </a:xfrm>
          <a:custGeom>
            <a:avLst/>
            <a:gdLst>
              <a:gd name="textAreaLeft" fmla="*/ 424440 w 9144000"/>
              <a:gd name="textAreaRight" fmla="*/ 8719560 w 9144000"/>
              <a:gd name="textAreaTop" fmla="*/ 424440 h 6553080"/>
              <a:gd name="textAreaBottom" fmla="*/ 6128640 h 6553080"/>
            </a:gdLst>
            <a:ahLst/>
            <a:rect l="textAreaLeft" t="textAreaTop" r="textAreaRight" b="textAreaBottom"/>
            <a:pathLst>
              <a:path w="30140" h="21600">
                <a:moveTo>
                  <a:pt x="0" y="0"/>
                </a:moveTo>
                <a:lnTo>
                  <a:pt x="30140" y="0"/>
                </a:lnTo>
                <a:lnTo>
                  <a:pt x="30140" y="21600"/>
                </a:lnTo>
                <a:lnTo>
                  <a:pt x="0" y="21600"/>
                </a:lnTo>
                <a:close/>
              </a:path>
              <a:path fill="lightenLess" w="30140" h="21600">
                <a:moveTo>
                  <a:pt x="0" y="0"/>
                </a:moveTo>
                <a:lnTo>
                  <a:pt x="30140" y="0"/>
                </a:lnTo>
                <a:lnTo>
                  <a:pt x="28740" y="1400"/>
                </a:lnTo>
                <a:lnTo>
                  <a:pt x="1400" y="1400"/>
                </a:lnTo>
                <a:close/>
              </a:path>
              <a:path fill="darken" w="30140" h="21600">
                <a:moveTo>
                  <a:pt x="30140" y="0"/>
                </a:moveTo>
                <a:lnTo>
                  <a:pt x="30140" y="21600"/>
                </a:lnTo>
                <a:lnTo>
                  <a:pt x="28740" y="20200"/>
                </a:lnTo>
                <a:lnTo>
                  <a:pt x="28740" y="1400"/>
                </a:lnTo>
                <a:close/>
              </a:path>
              <a:path fill="darkenLess" w="30140" h="21600">
                <a:moveTo>
                  <a:pt x="301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40" y="20200"/>
                </a:lnTo>
                <a:close/>
              </a:path>
              <a:path fill="lighten" w="301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You burn up you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ath text book a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e end of the school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year. Was this a physical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hange? Why or why not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4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5-4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No, you changed th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hemical identity of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e book and it can't b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reversed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4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5-4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09480" y="3581280"/>
            <a:ext cx="9144000" cy="6553440"/>
          </a:xfrm>
          <a:custGeom>
            <a:avLst/>
            <a:gdLst>
              <a:gd name="textAreaLeft" fmla="*/ 424440 w 9144000"/>
              <a:gd name="textAreaRight" fmla="*/ 8719560 w 9144000"/>
              <a:gd name="textAreaTop" fmla="*/ 424440 h 6553440"/>
              <a:gd name="textAreaBottom" fmla="*/ 6129000 h 6553440"/>
            </a:gdLst>
            <a:ahLst/>
            <a:rect l="textAreaLeft" t="textAreaTop" r="textAreaRight" b="textAreaBottom"/>
            <a:pathLst>
              <a:path w="30138" h="21600">
                <a:moveTo>
                  <a:pt x="0" y="0"/>
                </a:moveTo>
                <a:lnTo>
                  <a:pt x="30138" y="0"/>
                </a:lnTo>
                <a:lnTo>
                  <a:pt x="30138" y="21600"/>
                </a:lnTo>
                <a:lnTo>
                  <a:pt x="0" y="21600"/>
                </a:lnTo>
                <a:close/>
              </a:path>
              <a:path fill="lightenLess" w="30138" h="21600">
                <a:moveTo>
                  <a:pt x="0" y="0"/>
                </a:moveTo>
                <a:lnTo>
                  <a:pt x="30138" y="0"/>
                </a:lnTo>
                <a:lnTo>
                  <a:pt x="28738" y="1400"/>
                </a:lnTo>
                <a:lnTo>
                  <a:pt x="1400" y="1400"/>
                </a:lnTo>
                <a:close/>
              </a:path>
              <a:path fill="darken" w="30138" h="21600">
                <a:moveTo>
                  <a:pt x="30138" y="0"/>
                </a:moveTo>
                <a:lnTo>
                  <a:pt x="30138" y="21600"/>
                </a:lnTo>
                <a:lnTo>
                  <a:pt x="28738" y="20200"/>
                </a:lnTo>
                <a:lnTo>
                  <a:pt x="28738" y="1400"/>
                </a:lnTo>
                <a:close/>
              </a:path>
              <a:path fill="darkenLess" w="30138" h="21600">
                <a:moveTo>
                  <a:pt x="301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38" y="20200"/>
                </a:lnTo>
                <a:close/>
              </a:path>
              <a:path fill="lighten" w="301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s boiling a physical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hange? Why or why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not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5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5-5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Yes, the arrangemen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f the water molecul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hanges, but you still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just have water. No chang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n chemical identity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5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5-5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0" y="0"/>
            <a:ext cx="9144000" cy="6553080"/>
          </a:xfrm>
          <a:custGeom>
            <a:avLst/>
            <a:gdLst>
              <a:gd name="textAreaLeft" fmla="*/ 424440 w 9144000"/>
              <a:gd name="textAreaRight" fmla="*/ 8719560 w 9144000"/>
              <a:gd name="textAreaTop" fmla="*/ 424440 h 6553080"/>
              <a:gd name="textAreaBottom" fmla="*/ 6128640 h 6553080"/>
            </a:gdLst>
            <a:ahLst/>
            <a:rect l="textAreaLeft" t="textAreaTop" r="textAreaRight" b="textAreaBottom"/>
            <a:pathLst>
              <a:path w="30140" h="21600">
                <a:moveTo>
                  <a:pt x="0" y="0"/>
                </a:moveTo>
                <a:lnTo>
                  <a:pt x="30140" y="0"/>
                </a:lnTo>
                <a:lnTo>
                  <a:pt x="30140" y="21600"/>
                </a:lnTo>
                <a:lnTo>
                  <a:pt x="0" y="21600"/>
                </a:lnTo>
                <a:close/>
              </a:path>
              <a:path fill="lightenLess" w="30140" h="21600">
                <a:moveTo>
                  <a:pt x="0" y="0"/>
                </a:moveTo>
                <a:lnTo>
                  <a:pt x="30140" y="0"/>
                </a:lnTo>
                <a:lnTo>
                  <a:pt x="28740" y="1400"/>
                </a:lnTo>
                <a:lnTo>
                  <a:pt x="1400" y="1400"/>
                </a:lnTo>
                <a:close/>
              </a:path>
              <a:path fill="darken" w="30140" h="21600">
                <a:moveTo>
                  <a:pt x="30140" y="0"/>
                </a:moveTo>
                <a:lnTo>
                  <a:pt x="30140" y="21600"/>
                </a:lnTo>
                <a:lnTo>
                  <a:pt x="28740" y="20200"/>
                </a:lnTo>
                <a:lnTo>
                  <a:pt x="28740" y="1400"/>
                </a:lnTo>
                <a:close/>
              </a:path>
              <a:path fill="darkenLess" w="30140" h="21600">
                <a:moveTo>
                  <a:pt x="301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40" y="20200"/>
                </a:lnTo>
                <a:close/>
              </a:path>
              <a:path fill="lighten" w="301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1905120" y="1828800"/>
            <a:ext cx="556236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is a mixture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1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6-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1447920" y="2666880"/>
            <a:ext cx="61722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hysical Chang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omething made up of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wo or more different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stances or objects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1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6-1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0" y="0"/>
            <a:ext cx="9144000" cy="6553080"/>
          </a:xfrm>
          <a:custGeom>
            <a:avLst/>
            <a:gdLst>
              <a:gd name="textAreaLeft" fmla="*/ 424440 w 9144000"/>
              <a:gd name="textAreaRight" fmla="*/ 8719560 w 9144000"/>
              <a:gd name="textAreaTop" fmla="*/ 424440 h 6553080"/>
              <a:gd name="textAreaBottom" fmla="*/ 6128640 h 6553080"/>
            </a:gdLst>
            <a:ahLst/>
            <a:rect l="textAreaLeft" t="textAreaTop" r="textAreaRight" b="textAreaBottom"/>
            <a:pathLst>
              <a:path w="30140" h="21600">
                <a:moveTo>
                  <a:pt x="0" y="0"/>
                </a:moveTo>
                <a:lnTo>
                  <a:pt x="30140" y="0"/>
                </a:lnTo>
                <a:lnTo>
                  <a:pt x="30140" y="21600"/>
                </a:lnTo>
                <a:lnTo>
                  <a:pt x="0" y="21600"/>
                </a:lnTo>
                <a:close/>
              </a:path>
              <a:path fill="lightenLess" w="30140" h="21600">
                <a:moveTo>
                  <a:pt x="0" y="0"/>
                </a:moveTo>
                <a:lnTo>
                  <a:pt x="30140" y="0"/>
                </a:lnTo>
                <a:lnTo>
                  <a:pt x="28740" y="1400"/>
                </a:lnTo>
                <a:lnTo>
                  <a:pt x="1400" y="1400"/>
                </a:lnTo>
                <a:close/>
              </a:path>
              <a:path fill="darken" w="30140" h="21600">
                <a:moveTo>
                  <a:pt x="30140" y="0"/>
                </a:moveTo>
                <a:lnTo>
                  <a:pt x="30140" y="21600"/>
                </a:lnTo>
                <a:lnTo>
                  <a:pt x="28740" y="20200"/>
                </a:lnTo>
                <a:lnTo>
                  <a:pt x="28740" y="1400"/>
                </a:lnTo>
                <a:close/>
              </a:path>
              <a:path fill="darkenLess" w="30140" h="21600">
                <a:moveTo>
                  <a:pt x="301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40" y="20200"/>
                </a:lnTo>
                <a:close/>
              </a:path>
              <a:path fill="lighten" w="301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1905120" y="1828800"/>
            <a:ext cx="55623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is a compound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2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6-2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omething made up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f two or more differen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s of atoms bonded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ogether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2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6-2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0" y="0"/>
            <a:ext cx="9144000" cy="6553080"/>
          </a:xfrm>
          <a:custGeom>
            <a:avLst/>
            <a:gdLst>
              <a:gd name="textAreaLeft" fmla="*/ 424440 w 9144000"/>
              <a:gd name="textAreaRight" fmla="*/ 8719560 w 9144000"/>
              <a:gd name="textAreaTop" fmla="*/ 424440 h 6553080"/>
              <a:gd name="textAreaBottom" fmla="*/ 6128640 h 6553080"/>
            </a:gdLst>
            <a:ahLst/>
            <a:rect l="textAreaLeft" t="textAreaTop" r="textAreaRight" b="textAreaBottom"/>
            <a:pathLst>
              <a:path w="30140" h="21600">
                <a:moveTo>
                  <a:pt x="0" y="0"/>
                </a:moveTo>
                <a:lnTo>
                  <a:pt x="30140" y="0"/>
                </a:lnTo>
                <a:lnTo>
                  <a:pt x="30140" y="21600"/>
                </a:lnTo>
                <a:lnTo>
                  <a:pt x="0" y="21600"/>
                </a:lnTo>
                <a:close/>
              </a:path>
              <a:path fill="lightenLess" w="30140" h="21600">
                <a:moveTo>
                  <a:pt x="0" y="0"/>
                </a:moveTo>
                <a:lnTo>
                  <a:pt x="30140" y="0"/>
                </a:lnTo>
                <a:lnTo>
                  <a:pt x="28740" y="1400"/>
                </a:lnTo>
                <a:lnTo>
                  <a:pt x="1400" y="1400"/>
                </a:lnTo>
                <a:close/>
              </a:path>
              <a:path fill="darken" w="30140" h="21600">
                <a:moveTo>
                  <a:pt x="30140" y="0"/>
                </a:moveTo>
                <a:lnTo>
                  <a:pt x="30140" y="21600"/>
                </a:lnTo>
                <a:lnTo>
                  <a:pt x="28740" y="20200"/>
                </a:lnTo>
                <a:lnTo>
                  <a:pt x="28740" y="1400"/>
                </a:lnTo>
                <a:close/>
              </a:path>
              <a:path fill="darkenLess" w="30140" h="21600">
                <a:moveTo>
                  <a:pt x="301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40" y="20200"/>
                </a:lnTo>
                <a:close/>
              </a:path>
              <a:path fill="lighten" w="301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1905120" y="1828800"/>
            <a:ext cx="556236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Give an example of 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olution. Is this a mixture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3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6-3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nswers may vary,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nd yes, it is a mixture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3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6-3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80880" y="3581280"/>
            <a:ext cx="9144000" cy="6553440"/>
          </a:xfrm>
          <a:custGeom>
            <a:avLst/>
            <a:gdLst>
              <a:gd name="textAreaLeft" fmla="*/ 424440 w 9144000"/>
              <a:gd name="textAreaRight" fmla="*/ 8719560 w 9144000"/>
              <a:gd name="textAreaTop" fmla="*/ 424440 h 6553440"/>
              <a:gd name="textAreaBottom" fmla="*/ 6129000 h 6553440"/>
            </a:gdLst>
            <a:ahLst/>
            <a:rect l="textAreaLeft" t="textAreaTop" r="textAreaRight" b="textAreaBottom"/>
            <a:pathLst>
              <a:path w="30138" h="21600">
                <a:moveTo>
                  <a:pt x="0" y="0"/>
                </a:moveTo>
                <a:lnTo>
                  <a:pt x="30138" y="0"/>
                </a:lnTo>
                <a:lnTo>
                  <a:pt x="30138" y="21600"/>
                </a:lnTo>
                <a:lnTo>
                  <a:pt x="0" y="21600"/>
                </a:lnTo>
                <a:close/>
              </a:path>
              <a:path fill="lightenLess" w="30138" h="21600">
                <a:moveTo>
                  <a:pt x="0" y="0"/>
                </a:moveTo>
                <a:lnTo>
                  <a:pt x="30138" y="0"/>
                </a:lnTo>
                <a:lnTo>
                  <a:pt x="28738" y="1400"/>
                </a:lnTo>
                <a:lnTo>
                  <a:pt x="1400" y="1400"/>
                </a:lnTo>
                <a:close/>
              </a:path>
              <a:path fill="darken" w="30138" h="21600">
                <a:moveTo>
                  <a:pt x="30138" y="0"/>
                </a:moveTo>
                <a:lnTo>
                  <a:pt x="30138" y="21600"/>
                </a:lnTo>
                <a:lnTo>
                  <a:pt x="28738" y="20200"/>
                </a:lnTo>
                <a:lnTo>
                  <a:pt x="28738" y="1400"/>
                </a:lnTo>
                <a:close/>
              </a:path>
              <a:path fill="darkenLess" w="30138" h="21600">
                <a:moveTo>
                  <a:pt x="301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38" y="20200"/>
                </a:lnTo>
                <a:close/>
              </a:path>
              <a:path fill="lighten" w="301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s water a compound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r a mixture? Why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4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6-4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 compound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4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6-4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0" y="0"/>
            <a:ext cx="9144000" cy="6553080"/>
          </a:xfrm>
          <a:custGeom>
            <a:avLst/>
            <a:gdLst>
              <a:gd name="textAreaLeft" fmla="*/ 424440 w 9144000"/>
              <a:gd name="textAreaRight" fmla="*/ 8719560 w 9144000"/>
              <a:gd name="textAreaTop" fmla="*/ 424440 h 6553080"/>
              <a:gd name="textAreaBottom" fmla="*/ 6128640 h 6553080"/>
            </a:gdLst>
            <a:ahLst/>
            <a:rect l="textAreaLeft" t="textAreaTop" r="textAreaRight" b="textAreaBottom"/>
            <a:pathLst>
              <a:path w="30140" h="21600">
                <a:moveTo>
                  <a:pt x="0" y="0"/>
                </a:moveTo>
                <a:lnTo>
                  <a:pt x="30140" y="0"/>
                </a:lnTo>
                <a:lnTo>
                  <a:pt x="30140" y="21600"/>
                </a:lnTo>
                <a:lnTo>
                  <a:pt x="0" y="21600"/>
                </a:lnTo>
                <a:close/>
              </a:path>
              <a:path fill="lightenLess" w="30140" h="21600">
                <a:moveTo>
                  <a:pt x="0" y="0"/>
                </a:moveTo>
                <a:lnTo>
                  <a:pt x="30140" y="0"/>
                </a:lnTo>
                <a:lnTo>
                  <a:pt x="28740" y="1400"/>
                </a:lnTo>
                <a:lnTo>
                  <a:pt x="1400" y="1400"/>
                </a:lnTo>
                <a:close/>
              </a:path>
              <a:path fill="darken" w="30140" h="21600">
                <a:moveTo>
                  <a:pt x="30140" y="0"/>
                </a:moveTo>
                <a:lnTo>
                  <a:pt x="30140" y="21600"/>
                </a:lnTo>
                <a:lnTo>
                  <a:pt x="28740" y="20200"/>
                </a:lnTo>
                <a:lnTo>
                  <a:pt x="28740" y="1400"/>
                </a:lnTo>
                <a:close/>
              </a:path>
              <a:path fill="darkenLess" w="30140" h="21600">
                <a:moveTo>
                  <a:pt x="301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40" y="20200"/>
                </a:lnTo>
                <a:close/>
              </a:path>
              <a:path fill="lighten" w="301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was the conclus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f the mixture lab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5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6-5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offee filters cannot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eparate solutions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5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6-5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0" y="0"/>
            <a:ext cx="9144000" cy="6553080"/>
          </a:xfrm>
          <a:custGeom>
            <a:avLst/>
            <a:gdLst>
              <a:gd name="textAreaLeft" fmla="*/ 424440 w 9144000"/>
              <a:gd name="textAreaRight" fmla="*/ 8719560 w 9144000"/>
              <a:gd name="textAreaTop" fmla="*/ 424440 h 6553080"/>
              <a:gd name="textAreaBottom" fmla="*/ 6128640 h 6553080"/>
            </a:gdLst>
            <a:ahLst/>
            <a:rect l="textAreaLeft" t="textAreaTop" r="textAreaRight" b="textAreaBottom"/>
            <a:pathLst>
              <a:path w="30140" h="21600">
                <a:moveTo>
                  <a:pt x="0" y="0"/>
                </a:moveTo>
                <a:lnTo>
                  <a:pt x="30140" y="0"/>
                </a:lnTo>
                <a:lnTo>
                  <a:pt x="30140" y="21600"/>
                </a:lnTo>
                <a:lnTo>
                  <a:pt x="0" y="21600"/>
                </a:lnTo>
                <a:close/>
              </a:path>
              <a:path fill="lightenLess" w="30140" h="21600">
                <a:moveTo>
                  <a:pt x="0" y="0"/>
                </a:moveTo>
                <a:lnTo>
                  <a:pt x="30140" y="0"/>
                </a:lnTo>
                <a:lnTo>
                  <a:pt x="28740" y="1400"/>
                </a:lnTo>
                <a:lnTo>
                  <a:pt x="1400" y="1400"/>
                </a:lnTo>
                <a:close/>
              </a:path>
              <a:path fill="darken" w="30140" h="21600">
                <a:moveTo>
                  <a:pt x="30140" y="0"/>
                </a:moveTo>
                <a:lnTo>
                  <a:pt x="30140" y="21600"/>
                </a:lnTo>
                <a:lnTo>
                  <a:pt x="28740" y="20200"/>
                </a:lnTo>
                <a:lnTo>
                  <a:pt x="28740" y="1400"/>
                </a:lnTo>
                <a:close/>
              </a:path>
              <a:path fill="darkenLess" w="30140" h="21600">
                <a:moveTo>
                  <a:pt x="301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40" y="20200"/>
                </a:lnTo>
                <a:close/>
              </a:path>
              <a:path fill="lighten" w="301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2057400" y="1295280"/>
            <a:ext cx="4724280" cy="227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Final</a:t>
            </a:r>
            <a:endParaRPr b="1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Jeopardy</a:t>
            </a:r>
            <a:endParaRPr b="1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1295280" y="4572000"/>
            <a:ext cx="6477120" cy="15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57500"/>
                    </a:gs>
                    <a:gs pos="50000">
                      <a:srgbClr val="ffff00"/>
                    </a:gs>
                    <a:gs pos="100000">
                      <a:srgbClr val="757500"/>
                    </a:gs>
                  </a:gsLst>
                  <a:lin ang="5400000"/>
                </a:gradFill>
                <a:latin typeface="Comic Sans MS"/>
              </a:rPr>
              <a:t>Hypothes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57500"/>
                  </a:gs>
                  <a:gs pos="50000">
                    <a:srgbClr val="ffff00"/>
                  </a:gs>
                  <a:gs pos="100000">
                    <a:srgbClr val="757500"/>
                  </a:gs>
                </a:gsLst>
                <a:lin ang="5400000"/>
              </a:gradFill>
              <a:latin typeface="Comic Sans MS"/>
              <a:ea typeface="Comic Sans MS"/>
            </a:endParaRPr>
          </a:p>
        </p:txBody>
      </p:sp>
      <p:sp>
        <p:nvSpPr>
          <p:cNvPr id="348" name=""/>
          <p:cNvSpPr/>
          <p:nvPr/>
        </p:nvSpPr>
        <p:spPr>
          <a:xfrm>
            <a:off x="1143000" y="1752480"/>
            <a:ext cx="762120" cy="685800"/>
          </a:xfrm>
          <a:prstGeom prst="star5">
            <a:avLst/>
          </a:pr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620120" y="1981080"/>
            <a:ext cx="761760" cy="685800"/>
          </a:xfrm>
          <a:prstGeom prst="star5">
            <a:avLst/>
          </a:prstGeom>
          <a:gradFill rotWithShape="0">
            <a:gsLst>
              <a:gs pos="0">
                <a:srgbClr val="752f00"/>
              </a:gs>
              <a:gs pos="50000">
                <a:srgbClr val="ff6600"/>
              </a:gs>
              <a:gs pos="100000">
                <a:srgbClr val="752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934320" y="3581280"/>
            <a:ext cx="761760" cy="685800"/>
          </a:xfrm>
          <a:prstGeom prst="star5">
            <a:avLst/>
          </a:prstGeom>
          <a:gradFill rotWithShape="0">
            <a:gsLst>
              <a:gs pos="0">
                <a:srgbClr val="5e4675"/>
              </a:gs>
              <a:gs pos="50000">
                <a:srgbClr val="cc99ff"/>
              </a:gs>
              <a:gs pos="100000">
                <a:srgbClr val="5e46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981080" y="1219320"/>
            <a:ext cx="762120" cy="685800"/>
          </a:xfrm>
          <a:prstGeom prst="star5">
            <a:avLst/>
          </a:prstGeom>
          <a:gradFill rotWithShape="0">
            <a:gsLst>
              <a:gs pos="0">
                <a:srgbClr val="007500"/>
              </a:gs>
              <a:gs pos="50000">
                <a:srgbClr val="00ff00"/>
              </a:gs>
              <a:gs pos="100000">
                <a:srgbClr val="0075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019920" y="1676520"/>
            <a:ext cx="761760" cy="685800"/>
          </a:xfrm>
          <a:prstGeom prst="star5">
            <a:avLst/>
          </a:pr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500"/>
                            </p:stCondLst>
                            <p:childTnLst>
                              <p:par>
                                <p:cTn id="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000"/>
                            </p:stCondLst>
                            <p:childTnLst>
                              <p:par>
                                <p:cTn id="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500"/>
                            </p:stCondLst>
                            <p:childTnLst>
                              <p:par>
                                <p:cTn id="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2500"/>
                            </p:stCondLst>
                            <p:childTnLst>
                              <p:par>
                                <p:cTn id="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1447920" y="2590920"/>
            <a:ext cx="61722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ixtures and Compound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990720" y="914400"/>
            <a:ext cx="7315200" cy="525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rite a proper hypothesi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nd label the variables for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is question: Does reviewing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ore help you get a bett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grade on a test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2"/>
          <a:stretch/>
        </p:blipFill>
        <p:spPr>
          <a:xfrm>
            <a:off x="8153280" y="5943600"/>
            <a:ext cx="406440" cy="4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restart="whenNotActive" nodeType="interactiveSeq" fill="hold">
                <p:stCondLst>
                  <p:cond evt="onClick">
                    <p:tgtEl>
                      <p:spTgt spid="354"/>
                    </p:tgtEl>
                  </p:cond>
                </p:stCondLst>
                <p:childTnLst>
                  <p:par>
                    <p:cTn id="77" fill="hold">
                      <p:stCondLst>
                        <p:cond evt="onClick">
                          <p:tgtEl>
                            <p:spTgt spid="354"/>
                          </p:tgtEl>
                        </p:cond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0" dur="1" fill="hold"/>
                                        <p:tgtEl>
                                          <p:spTgt spid="3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 txBox="1"/>
          <p:nvPr/>
        </p:nvSpPr>
        <p:spPr>
          <a:xfrm>
            <a:off x="990720" y="914400"/>
            <a:ext cx="7315200" cy="525780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ontestants: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lease put down you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riting tools and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ait for furth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nstructions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2"/>
          <a:stretch/>
        </p:blipFill>
        <p:spPr>
          <a:xfrm>
            <a:off x="6705720" y="4572000"/>
            <a:ext cx="1846080" cy="16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 txBox="1"/>
          <p:nvPr/>
        </p:nvSpPr>
        <p:spPr>
          <a:xfrm>
            <a:off x="990720" y="914400"/>
            <a:ext cx="7315200" cy="525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V: reviewing tim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V: test grad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f you review more,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en you will get a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better grade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533520"/>
            <a:ext cx="8305560" cy="5943600"/>
          </a:xfrm>
          <a:custGeom>
            <a:avLst/>
            <a:gdLst>
              <a:gd name="textAreaLeft" fmla="*/ 385200 w 8305560"/>
              <a:gd name="textAreaRight" fmla="*/ 7920360 w 8305560"/>
              <a:gd name="textAreaTop" fmla="*/ 385200 h 5943600"/>
              <a:gd name="textAreaBottom" fmla="*/ 5558400 h 5943600"/>
            </a:gdLst>
            <a:ahLst/>
            <a:rect l="textAreaLeft" t="textAreaTop" r="textAreaRight" b="textAreaBottom"/>
            <a:pathLst>
              <a:path w="30183" h="21600">
                <a:moveTo>
                  <a:pt x="0" y="0"/>
                </a:moveTo>
                <a:lnTo>
                  <a:pt x="30183" y="0"/>
                </a:lnTo>
                <a:lnTo>
                  <a:pt x="30183" y="21600"/>
                </a:lnTo>
                <a:lnTo>
                  <a:pt x="0" y="21600"/>
                </a:lnTo>
                <a:close/>
              </a:path>
              <a:path fill="lightenLess" w="30183" h="21600">
                <a:moveTo>
                  <a:pt x="0" y="0"/>
                </a:moveTo>
                <a:lnTo>
                  <a:pt x="30183" y="0"/>
                </a:lnTo>
                <a:lnTo>
                  <a:pt x="28783" y="1400"/>
                </a:lnTo>
                <a:lnTo>
                  <a:pt x="1400" y="1400"/>
                </a:lnTo>
                <a:close/>
              </a:path>
              <a:path fill="darken" w="30183" h="21600">
                <a:moveTo>
                  <a:pt x="30183" y="0"/>
                </a:moveTo>
                <a:lnTo>
                  <a:pt x="30183" y="21600"/>
                </a:lnTo>
                <a:lnTo>
                  <a:pt x="28783" y="20200"/>
                </a:lnTo>
                <a:lnTo>
                  <a:pt x="28783" y="1400"/>
                </a:lnTo>
                <a:close/>
              </a:path>
              <a:path fill="darkenLess" w="30183" h="21600">
                <a:moveTo>
                  <a:pt x="301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83" y="20200"/>
                </a:lnTo>
                <a:close/>
              </a:path>
              <a:path fill="lighten" w="301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1295280" y="1295280"/>
            <a:ext cx="6172200" cy="403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That's all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for today.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Good luck on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your test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/>
          <p:nvPr/>
        </p:nvSpPr>
        <p:spPr>
          <a:xfrm>
            <a:off x="5257800" y="3276720"/>
            <a:ext cx="914400" cy="91440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200400" y="1676520"/>
            <a:ext cx="380880" cy="38088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2057400" y="1905120"/>
            <a:ext cx="525780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850000"/>
                    </a:gs>
                    <a:gs pos="100000">
                      <a:srgbClr val="ff00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Daily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850000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850000"/>
                    </a:gs>
                    <a:gs pos="100000">
                      <a:srgbClr val="ff00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Double!!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850000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2"/>
          <a:stretch/>
        </p:blipFill>
        <p:spPr>
          <a:xfrm>
            <a:off x="380880" y="6324480"/>
            <a:ext cx="76320" cy="76320"/>
          </a:xfrm>
          <a:prstGeom prst="rect">
            <a:avLst/>
          </a:prstGeom>
          <a:ln w="0">
            <a:noFill/>
          </a:ln>
        </p:spPr>
      </p:pic>
      <p:sp>
        <p:nvSpPr>
          <p:cNvPr id="364" name=""/>
          <p:cNvSpPr/>
          <p:nvPr/>
        </p:nvSpPr>
        <p:spPr>
          <a:xfrm>
            <a:off x="1371600" y="914400"/>
            <a:ext cx="685800" cy="68580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990720" y="1523880"/>
            <a:ext cx="533160" cy="53352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7086600" y="1523880"/>
            <a:ext cx="457200" cy="45720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7620120" y="1905120"/>
            <a:ext cx="380880" cy="38088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914400" y="990720"/>
            <a:ext cx="380880" cy="38088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819520" y="2209680"/>
            <a:ext cx="533160" cy="53352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7162920" y="2209680"/>
            <a:ext cx="533160" cy="53352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733920" y="5410080"/>
            <a:ext cx="457200" cy="45720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4191120" y="5029200"/>
            <a:ext cx="457200" cy="45720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429000" y="4876920"/>
            <a:ext cx="380880" cy="38088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Daily Double Round 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2" dur="1689" fill="hold"/>
                                        <p:tgtEl>
                                          <p:spTgt spid="3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1689"/>
                            </p:stCondLst>
                            <p:childTnLst>
                              <p:par>
                                <p:cTn id="9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2189"/>
                            </p:stCondLst>
                            <p:childTnLst>
                              <p:par>
                                <p:cTn id="9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228600" y="4572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Physical Properties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62720" y="1295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" action="ppaction://hlinksldjump"/>
              </a:rPr>
              <a:t>$</a:t>
            </a: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" action="ppaction://hlinksldjump"/>
              </a:rPr>
              <a:t>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62720" y="2438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4" action="ppaction://hlinksldjump"/>
              </a:rPr>
              <a:t>$</a:t>
            </a: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5" action="ppaction://hlinksldjump"/>
              </a:rPr>
              <a:t>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2720" y="3581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6" action="ppaction://hlinksldjump"/>
              </a:rPr>
              <a:t>$</a:t>
            </a: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7" action="ppaction://hlinksldjump"/>
              </a:rPr>
              <a:t>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62720" y="4724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8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2720" y="5867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9" action="ppaction://hlinksldjump"/>
              </a:rPr>
              <a:t>$</a:t>
            </a: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0" action="ppaction://hlinksldjump"/>
              </a:rPr>
              <a:t>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6866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1" action="ppaction://hlinksldjump"/>
              </a:rPr>
              <a:t>$</a:t>
            </a: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2" action="ppaction://hlinksldjump"/>
              </a:rPr>
              <a:t>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9596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3" action="ppaction://hlinksldjump"/>
              </a:rPr>
              <a:t>$</a:t>
            </a: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4" action="ppaction://hlinksldjump"/>
              </a:rPr>
              <a:t>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68660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5" action="ppaction://hlinksldjump"/>
              </a:rPr>
              <a:t>$</a:t>
            </a: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6" action="ppaction://hlinksldjump"/>
              </a:rPr>
              <a:t>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68660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7" action="ppaction://hlinksldjump"/>
              </a:rPr>
              <a:t>$</a:t>
            </a: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8" action="ppaction://hlinksldjump"/>
              </a:rPr>
              <a:t>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68660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9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210480" y="127944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0" action="ppaction://hlinksldjump"/>
              </a:rPr>
              <a:t>$</a:t>
            </a: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1" action="ppaction://hlinksldjump"/>
              </a:rPr>
              <a:t>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10480" y="2438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2" action="ppaction://hlinksldjump"/>
              </a:rPr>
              <a:t>$</a:t>
            </a: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3" action="ppaction://hlinksldjump"/>
              </a:rPr>
              <a:t>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201120" y="356544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4" action="ppaction://hlinksldjump"/>
              </a:rPr>
              <a:t>$</a:t>
            </a: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5" action="ppaction://hlinksldjump"/>
              </a:rPr>
              <a:t>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1048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6" action="ppaction://hlinksldjump"/>
              </a:rPr>
              <a:t>$</a:t>
            </a: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7" action="ppaction://hlinksldjump"/>
              </a:rPr>
              <a:t>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1048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8" action="ppaction://hlinksldjump"/>
              </a:rPr>
              <a:t>$</a:t>
            </a: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9" action="ppaction://hlinksldjump"/>
              </a:rPr>
              <a:t>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7250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0" action="ppaction://hlinksldjump"/>
              </a:rPr>
              <a:t>$</a:t>
            </a: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1" action="ppaction://hlinksldjump"/>
              </a:rPr>
              <a:t>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7250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2" action="ppaction://hlinksldjump"/>
              </a:rPr>
              <a:t>$</a:t>
            </a: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3" action="ppaction://hlinksldjump"/>
              </a:rPr>
              <a:t>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73472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4" action="ppaction://hlinksldjump"/>
              </a:rPr>
              <a:t>$</a:t>
            </a: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5" action="ppaction://hlinksldjump"/>
              </a:rPr>
              <a:t>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73472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6" action="ppaction://hlinksldjump"/>
              </a:rPr>
              <a:t>$</a:t>
            </a: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7" action="ppaction://hlinksldjump"/>
              </a:rPr>
              <a:t>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73472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8" action="ppaction://hlinksldjump"/>
              </a:rPr>
              <a:t>$</a:t>
            </a: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9" action="ppaction://hlinksldjump"/>
              </a:rPr>
              <a:t>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26796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40" action="ppaction://hlinksldjump"/>
              </a:rPr>
              <a:t>$</a:t>
            </a: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41" action="ppaction://hlinksldjump"/>
              </a:rPr>
              <a:t>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2586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42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26796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43" action="ppaction://hlinksldjump"/>
              </a:rPr>
              <a:t>$</a:t>
            </a: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44" action="ppaction://hlinksldjump"/>
              </a:rPr>
              <a:t>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26796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26796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45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7922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46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7922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47" action="ppaction://hlinksldjump"/>
              </a:rPr>
              <a:t>$</a:t>
            </a: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48" action="ppaction://hlinksldjump"/>
              </a:rPr>
              <a:t>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78248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49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79220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50" action="ppaction://hlinksldjump"/>
              </a:rPr>
              <a:t>$</a:t>
            </a: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51" action="ppaction://hlinksldjump"/>
              </a:rPr>
              <a:t>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79220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52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8839080" y="6553080"/>
            <a:ext cx="228600" cy="15264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752480" y="4572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The Scientific Method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3276720" y="4572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Making a Hypothesis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7848720" y="4572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Mixtures/Compounds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6324480" y="4572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Physical Changes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800600" y="4572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Independent/Dependent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Give a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example of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 physical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roperty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1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-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7T17:16:48Z</dcterms:created>
  <dc:creator>Matt Hamlyn</dc:creator>
  <dc:description>email mhamlyn@jessamine.k12.ky.us</dc:description>
  <dc:language>en-US</dc:language>
  <cp:lastModifiedBy>Nathaniel Taylor</cp:lastModifiedBy>
  <dcterms:modified xsi:type="dcterms:W3CDTF">2010-07-19T04:20:26Z</dcterms:modified>
  <cp:revision>105</cp:revision>
  <dc:subject/>
  <dc:title>No Slide Title</dc:title>
</cp:coreProperties>
</file>