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5.pct" ContentType="image/x-pict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230-FA14-4E5D-B8E4-5FB56086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3BE-6B0E-482F-A5C9-B50D2FB4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288-27E3-45F0-99FB-7E76BC7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CD9-917E-4A69-99A1-F54C5F28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C31-6F3B-4220-B717-CEF7C89A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538-8724-4D1C-9149-DE55CF7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D4A-63C9-44C1-B8CF-435D584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E4E-9611-49CA-8167-C3D5684D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8D5-B872-4E17-843E-C562C51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4F6-D023-4CB9-BB4E-00E7A61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183-AC54-4030-AE30-38DA8048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5E1-46CA-4B58-B3A8-D7BC2BB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118-34BD-4941-BD4B-1D301E9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AD2-65EB-4697-9C56-BCBEC1DC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14600" y="5867280"/>
            <a:ext cx="6094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0"/>
            <a:ext cx="4267080" cy="2971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 mea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ndines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lle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propert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in order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asure flammabil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must bur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, changing i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why mel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int 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 can measu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ing point b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ing at w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 someth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lts. This does n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 the chemical identit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the arrangement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lecul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the fu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ion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n be measu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observed ab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wit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ing its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a ste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scientif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ma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serv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52280" y="46483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dat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alysis 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ng a so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bout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fic metho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w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ly 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0" y="31240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re are si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portant p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 hypothesi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ame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[independent variable]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then [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] chan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grass grow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 sunligh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re i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nlight, the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ss will grow fas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llowing quest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the spaceship fly fas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 lot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anut bu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he crew bring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peanut butter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ship will f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low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follo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enario: Jack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red, very tired, so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a 5 hour ener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started drinking a lo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5 hour energies, but the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also started feeling sick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ackson drinks 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hour energies, then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be less health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 hypothesi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son thought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resident was tell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es, so he went to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orter. The repor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Johnson wa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. This woul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ffect if she wrote a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Johnson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lling the truth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the repor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ill write the sto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5840" y="1949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 in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52280" y="3733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variab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es the scient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or 2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. The 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in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. The independent depe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dependent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in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 for the follow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: Isreal wond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time sleeping in class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lated to his grad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sleeping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depend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: Nate had two dog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e and Gizmo, 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ondered if how much the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rank was related to h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times they peed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tim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ed on floo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098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, or depend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is the ques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hange that d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 change the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ty. Normally they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ib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spread pean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utter on a slic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d. Explain why th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a physical chang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chemical ident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peanut bu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d not change.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peanut butt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 burn up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h text book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nd of th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ar. Was this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 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, you chan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identit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book and it can't b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boiling 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? Why or wh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es, the arrang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water molecu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nges, but you st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ust have water. No chan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chemical identi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5120" y="182880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differ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s or object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mething made u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wo or more diffe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atoms bond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gether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 example of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ution. Is this a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s may v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yes, it is a mixtur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581280"/>
            <a:ext cx="9144000" cy="655344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440"/>
              <a:gd name="textAreaBottom" fmla="*/ 6129000 h 6553440"/>
            </a:gdLst>
            <a:ahLst/>
            <a:rect l="textAreaLeft" t="textAreaTop" r="textAreaRight" b="textAreaBottom"/>
            <a:pathLst>
              <a:path w="30138" h="21600">
                <a:moveTo>
                  <a:pt x="0" y="0"/>
                </a:moveTo>
                <a:lnTo>
                  <a:pt x="30138" y="0"/>
                </a:lnTo>
                <a:lnTo>
                  <a:pt x="30138" y="21600"/>
                </a:lnTo>
                <a:lnTo>
                  <a:pt x="0" y="21600"/>
                </a:lnTo>
                <a:close/>
              </a:path>
              <a:path fill="lightenLess" w="30138" h="21600">
                <a:moveTo>
                  <a:pt x="0" y="0"/>
                </a:moveTo>
                <a:lnTo>
                  <a:pt x="30138" y="0"/>
                </a:lnTo>
                <a:lnTo>
                  <a:pt x="28738" y="1400"/>
                </a:lnTo>
                <a:lnTo>
                  <a:pt x="1400" y="1400"/>
                </a:lnTo>
                <a:close/>
              </a:path>
              <a:path fill="darken" w="30138" h="21600">
                <a:moveTo>
                  <a:pt x="30138" y="0"/>
                </a:moveTo>
                <a:lnTo>
                  <a:pt x="30138" y="21600"/>
                </a:lnTo>
                <a:lnTo>
                  <a:pt x="28738" y="20200"/>
                </a:lnTo>
                <a:lnTo>
                  <a:pt x="28738" y="1400"/>
                </a:lnTo>
                <a:close/>
              </a:path>
              <a:path fill="darkenLess" w="30138" h="21600">
                <a:moveTo>
                  <a:pt x="30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8" y="20200"/>
                </a:lnTo>
                <a:close/>
              </a:path>
              <a:path fill="lighten" w="30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water a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 a mixture? Wh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compoun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was the conclus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mixture lab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ffee filters canno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parate solu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Hypothe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s and 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 proper hypothe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label the variables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question: Does review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re help you get a be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de on a tes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V: reviewing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V: test gr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you review mor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n you will get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etter grad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33520"/>
            <a:ext cx="8305560" cy="5943600"/>
          </a:xfrm>
          <a:custGeom>
            <a:avLst/>
            <a:gdLst>
              <a:gd name="textAreaLeft" fmla="*/ 385200 w 8305560"/>
              <a:gd name="textAreaRight" fmla="*/ 7920360 w 830556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3" h="21600">
                <a:moveTo>
                  <a:pt x="0" y="0"/>
                </a:moveTo>
                <a:lnTo>
                  <a:pt x="30183" y="0"/>
                </a:lnTo>
                <a:lnTo>
                  <a:pt x="30183" y="21600"/>
                </a:lnTo>
                <a:lnTo>
                  <a:pt x="0" y="21600"/>
                </a:lnTo>
                <a:close/>
              </a:path>
              <a:path fill="lightenLess" w="30183" h="21600">
                <a:moveTo>
                  <a:pt x="0" y="0"/>
                </a:moveTo>
                <a:lnTo>
                  <a:pt x="30183" y="0"/>
                </a:lnTo>
                <a:lnTo>
                  <a:pt x="28783" y="1400"/>
                </a:lnTo>
                <a:lnTo>
                  <a:pt x="1400" y="1400"/>
                </a:lnTo>
                <a:close/>
              </a:path>
              <a:path fill="darken" w="30183" h="21600">
                <a:moveTo>
                  <a:pt x="30183" y="0"/>
                </a:moveTo>
                <a:lnTo>
                  <a:pt x="30183" y="21600"/>
                </a:lnTo>
                <a:lnTo>
                  <a:pt x="28783" y="20200"/>
                </a:lnTo>
                <a:lnTo>
                  <a:pt x="28783" y="1400"/>
                </a:lnTo>
                <a:close/>
              </a:path>
              <a:path fill="darkenLess" w="30183" h="21600">
                <a:moveTo>
                  <a:pt x="30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3" y="20200"/>
                </a:lnTo>
                <a:close/>
              </a:path>
              <a:path fill="lighten" w="30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8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89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89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Properti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cientific Metho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king a Hypothesi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xtures/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hysical Chang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dependent/Depend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pert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Nathaniel Taylor</cp:lastModifiedBy>
  <dcterms:modified xsi:type="dcterms:W3CDTF">2010-07-19T04:20:26Z</dcterms:modified>
  <cp:revision>105</cp:revision>
  <dc:subject/>
  <dc:title>No Slide Title</dc:title>
</cp:coreProperties>
</file>