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5.pct" ContentType="image/x-pict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BAF1-2EA0-440A-94D9-D179C7B61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235-AC8B-4F9E-9E09-54924C93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BDF-E893-4E59-9C9E-365F8AAF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494-2D0F-4988-AD46-8614B47F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730-0B14-494C-A476-BF046C91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9C2-441A-492C-BB93-4A9F47CB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C95-6BE5-491D-ABFA-B9B39845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D5C-1B1E-4800-875A-387EDD5A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591-5298-4F51-9CBE-B0BDA9DA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157-3D0C-465B-AAA2-1C6FBB3F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990-13DD-47C6-84CA-E165F679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BF9-D105-4EDA-BC46-CC6124EB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E51-72C8-41A4-A28A-721CE7EB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5533-D51D-45A3-869E-4ED6248B2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7.xml"/><Relationship Id="rId29" Type="http://schemas.openxmlformats.org/officeDocument/2006/relationships/slide" Target="slide37.xml"/><Relationship Id="rId30" Type="http://schemas.openxmlformats.org/officeDocument/2006/relationships/slide" Target="slide39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1.xml"/><Relationship Id="rId34" Type="http://schemas.openxmlformats.org/officeDocument/2006/relationships/slide" Target="slide43.xml"/><Relationship Id="rId35" Type="http://schemas.openxmlformats.org/officeDocument/2006/relationships/slide" Target="slide43.xml"/><Relationship Id="rId36" Type="http://schemas.openxmlformats.org/officeDocument/2006/relationships/slide" Target="slide45.xml"/><Relationship Id="rId37" Type="http://schemas.openxmlformats.org/officeDocument/2006/relationships/slide" Target="slide45.xml"/><Relationship Id="rId38" Type="http://schemas.openxmlformats.org/officeDocument/2006/relationships/slide" Target="slide47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49.xml"/><Relationship Id="rId42" Type="http://schemas.openxmlformats.org/officeDocument/2006/relationships/slide" Target="slide51.xml"/><Relationship Id="rId43" Type="http://schemas.openxmlformats.org/officeDocument/2006/relationships/slide" Target="slide53.xml"/><Relationship Id="rId44" Type="http://schemas.openxmlformats.org/officeDocument/2006/relationships/slide" Target="slide53.xml"/><Relationship Id="rId45" Type="http://schemas.openxmlformats.org/officeDocument/2006/relationships/slide" Target="slide57.xml"/><Relationship Id="rId46" Type="http://schemas.openxmlformats.org/officeDocument/2006/relationships/slide" Target="slide59.xml"/><Relationship Id="rId47" Type="http://schemas.openxmlformats.org/officeDocument/2006/relationships/slide" Target="slide61.xml"/><Relationship Id="rId48" Type="http://schemas.openxmlformats.org/officeDocument/2006/relationships/slide" Target="slide61.xml"/><Relationship Id="rId49" Type="http://schemas.openxmlformats.org/officeDocument/2006/relationships/slide" Target="slide63.xml"/><Relationship Id="rId50" Type="http://schemas.openxmlformats.org/officeDocument/2006/relationships/slide" Target="slide65.xml"/><Relationship Id="rId51" Type="http://schemas.openxmlformats.org/officeDocument/2006/relationships/slide" Target="slide65.xml"/><Relationship Id="rId52" Type="http://schemas.openxmlformats.org/officeDocument/2006/relationships/slide" Target="slide6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14600" y="5867280"/>
            <a:ext cx="6094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c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0"/>
            <a:ext cx="4267080" cy="2971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w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 me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ndines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05120" y="175248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le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lamm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propert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in order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asure flamm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must bur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, changing 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identity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why mel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 is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can measu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lting point b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ing at w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erature someth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lts. This does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 the chemical identit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 the arrangement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lecul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the fu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io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 be measu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observed ab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bject wit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ing its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a st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scientif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ho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per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m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152280" y="46483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dat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sis 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 a so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fic metho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w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ely 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0" y="31240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re are si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 p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hypothesi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2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cientific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[independent variable]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, then [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] chang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llowing quest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the grass grow f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re is more sunligh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re is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nlight, the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 will grow fas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llowing quest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the spaceship fly f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crew brings lot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anut bu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crew bring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peanut butt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the ship will f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low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the follo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enario: Jackson w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red, very tired, so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rank a 5 hour energ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started drinking a 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5 hour energies, but th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also started feeling sick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Jackson drinks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hour energies, then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be less health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hnson thought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ident was tel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es, so he went to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rter. The repor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ndered if Johnson w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ling the truth. This woul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ffect if she wrote a sto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Johnson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ling the truth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the repor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write the sto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25840" y="1949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a 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erim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52280" y="3733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variab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the scient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 or 2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. The dependent depe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independ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. The independent depe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depend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 for the follow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: Isreal wond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ime sleeping in class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lated to his grad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 sleepi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: Nate had two dog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ie and Gizmo,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ndered if how much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rank was related to 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times they peed o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loo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ti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ed on floo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8098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 exampl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chang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t, or depend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is the questi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hange that d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change the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ty. Normally they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i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spread pean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tter on a slic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d. Explain why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s a physical chang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emical ident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peanut but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d not change. You st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ve peanut but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burn up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h text book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d of the sch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ar. Was this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 Why or why 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you change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identity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book and it can't 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581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boiling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 Why or wh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s, the arran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water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, but you st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 have water. No ch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chemical identi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905120" y="1828800"/>
            <a:ext cx="5562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made up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or more differ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s or objec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828800"/>
            <a:ext cx="5562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compou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made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wo or more differ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atoms bo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905120" y="1828800"/>
            <a:ext cx="55623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 example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ution. Is this a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 v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yes, it is a mixtur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581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water a comp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a mixture? Wh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ompoun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was the conclu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mixture lab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ffee filters can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 solu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Hypothe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tures and 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 proper 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label the variables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question: Does revie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help you get a be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de on a tes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153280" y="59436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V: reviewing t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V: test gra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you review mo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you will get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tter grad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533520"/>
            <a:ext cx="8305560" cy="5943600"/>
          </a:xfrm>
          <a:custGeom>
            <a:avLst/>
            <a:gdLst>
              <a:gd name="textAreaLeft" fmla="*/ 385200 w 8305560"/>
              <a:gd name="textAreaRight" fmla="*/ 7920360 w 8305560"/>
              <a:gd name="textAreaTop" fmla="*/ 385200 h 5943600"/>
              <a:gd name="textAreaBottom" fmla="*/ 5558400 h 5943600"/>
            </a:gdLst>
            <a:ahLst/>
            <a:rect l="textAreaLeft" t="textAreaTop" r="textAreaRight" b="textAreaBottom"/>
            <a:pathLst>
              <a:path w="30183" h="21600">
                <a:moveTo>
                  <a:pt x="0" y="0"/>
                </a:moveTo>
                <a:lnTo>
                  <a:pt x="30183" y="0"/>
                </a:lnTo>
                <a:lnTo>
                  <a:pt x="30183" y="21600"/>
                </a:lnTo>
                <a:lnTo>
                  <a:pt x="0" y="21600"/>
                </a:lnTo>
                <a:close/>
              </a:path>
              <a:path fill="lightenLess" w="30183" h="21600">
                <a:moveTo>
                  <a:pt x="0" y="0"/>
                </a:moveTo>
                <a:lnTo>
                  <a:pt x="30183" y="0"/>
                </a:lnTo>
                <a:lnTo>
                  <a:pt x="28783" y="1400"/>
                </a:lnTo>
                <a:lnTo>
                  <a:pt x="1400" y="1400"/>
                </a:lnTo>
                <a:close/>
              </a:path>
              <a:path fill="darken" w="30183" h="21600">
                <a:moveTo>
                  <a:pt x="30183" y="0"/>
                </a:moveTo>
                <a:lnTo>
                  <a:pt x="30183" y="21600"/>
                </a:lnTo>
                <a:lnTo>
                  <a:pt x="28783" y="20200"/>
                </a:lnTo>
                <a:lnTo>
                  <a:pt x="28783" y="1400"/>
                </a:lnTo>
                <a:close/>
              </a:path>
              <a:path fill="darkenLess" w="30183" h="21600">
                <a:moveTo>
                  <a:pt x="30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3" y="20200"/>
                </a:lnTo>
                <a:close/>
              </a:path>
              <a:path fill="lighten" w="30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689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89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89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cal Propert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Scientific Metho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king a Hypothe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xtures/Compoun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cal Chang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dependent/Depen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Nathaniel Taylor</cp:lastModifiedBy>
  <dcterms:modified xsi:type="dcterms:W3CDTF">2010-07-19T04:20:26Z</dcterms:modified>
  <cp:revision>105</cp:revision>
  <dc:subject/>
  <dc:title>No Slide Title</dc:title>
</cp:coreProperties>
</file>