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094-ECA7-43C9-AC14-74F225403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8C9-2D78-4C88-BEC9-6D932DD1A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520-ACF5-41D8-8D50-BB50B4CA8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F568-9B8A-4793-AD13-4FA5FAD39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A352-FA65-4F06-833F-11C48F2AE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CB2-AB45-40DE-8B92-1284783DB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440B-07DF-4B43-9E01-A3E931CC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F92-DAC9-4A85-B686-E4EBE95CE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8F1-C962-4859-8CEC-48FAE908F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E93-9FE7-4D09-9B36-86576C28A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8417-F95D-4495-B02C-DE6823094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3DB8-BB25-4315-BCA5-B9D9AE799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347-5DB0-4A02-8117-12D716DBE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1D2-048B-4D43-B7A3-1D5095F0D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BEBE-D9B5-4E9F-B7B9-80CD3DCC3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011-526B-4D1C-8934-1A5D3A793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6A9-45CC-4A20-8103-EC616AD27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ADE-7A33-4C38-8D05-EA54C280E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62C3-9D67-4E5D-BC26-17E05E205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641B-E349-4971-AC5F-1B5E5D0AD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DF3A-D78E-4850-9EF6-ECD1E346C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5B4-E974-415C-BC00-8963CF353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323F-0B61-4E17-9BEA-0B2AF384F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F9B4-AFFF-4DFF-B376-AEAB70243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EFEB-F372-42EE-981A-F4351F050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99F-CBB8-40B2-A012-7CCF50195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1889-EBBC-403F-9CC8-6CFB6EC33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1F0-A2C5-4C6F-88A8-F87D85908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F38-14F6-4C02-86E3-8F020094F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875F-93DF-4F26-AD4A-23CC9A10A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5615-B1B4-42E6-9345-0B432D31D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060-1217-4717-9AA0-4169B1F52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1377-FE26-4305-A5C9-BEE60106C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182-B8F3-412F-A0BF-67255567C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AC7-0276-43BE-A040-4232E3C01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4C9-1DF9-4905-A570-286C8B7B6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D94-127B-4593-9BE6-B1C591976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5618-34E1-40CD-840C-7BDD4AE4C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123-D869-48F6-9796-527F838CD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CAC-F0C9-45EA-8695-2EC77B213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C53-7DA7-4CB6-8F97-316F1D0AC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A55D-365D-45F3-9F75-DC65B6C05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01F-F8C8-40C2-9EC3-1D5CF0A4A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E30A-06A9-4746-9308-637EC1C9C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2090-B4C2-4948-8F99-79D9754B1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CFCC-1F7A-4D61-A72B-2BBACFEB8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268C-01A9-4E68-ACCD-F866BA9FB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650-AFEC-47CA-BC4A-BBEC69680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B69-9B18-4F9B-A48F-3496AA45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654-DAFB-4B9C-B839-D83F48EF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AEA-02FE-4558-87A6-C3A78FEF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941-02D8-4EDC-A8AA-60D306A9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0F7-8F19-41ED-A4D5-26DBA09C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005-9E8E-4C11-ADAA-DBC9E434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43B-347B-4C0E-BD80-091267F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35F-6088-4429-9044-19B830E7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CD1-8790-4BDD-B408-724E31FC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AED-DCC5-46C2-9C54-D6A3565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46F-91B2-41D3-BB5D-024D3B5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7BD-C896-4643-8481-3E5A6E5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DB7A-D147-4A91-8483-3CF90A13C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2_03TreeWaterFlow_2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2_UN660NitrogenUptake_L.jpg"/>
          <p:cNvPicPr/>
          <p:nvPr/>
        </p:nvPicPr>
        <p:blipFill>
          <a:blip r:embed="rId1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2_UN661TranspirationRate_T.jpg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2_UN660NutrientTransport_L.jpg"/>
          <p:cNvPicPr/>
          <p:nvPr/>
        </p:nvPicPr>
        <p:blipFill>
          <a:blip r:embed="rId1"/>
          <a:stretch/>
        </p:blipFill>
        <p:spPr>
          <a:xfrm>
            <a:off x="762120" y="1004760"/>
            <a:ext cx="7619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4_06aSolarRadLatitude_L.jpg"/>
          <p:cNvPicPr/>
          <p:nvPr/>
        </p:nvPicPr>
        <p:blipFill>
          <a:blip r:embed="rId1"/>
          <a:stretch/>
        </p:blipFill>
        <p:spPr>
          <a:xfrm>
            <a:off x="800280" y="590400"/>
            <a:ext cx="75438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34_06bTiltAndSeason_L.jpg"/>
          <p:cNvPicPr/>
          <p:nvPr/>
        </p:nvPicPr>
        <p:blipFill>
          <a:blip r:embed="rId1"/>
          <a:stretch/>
        </p:blipFill>
        <p:spPr>
          <a:xfrm>
            <a:off x="790560" y="57168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4_06cWindRainCause_L.jpg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4_06dPrevailingWind_L.jpg"/>
          <p:cNvPicPr/>
          <p:nvPr/>
        </p:nvPicPr>
        <p:blipFill>
          <a:blip r:embed="rId1"/>
          <a:stretch/>
        </p:blipFill>
        <p:spPr>
          <a:xfrm>
            <a:off x="1623960" y="571680"/>
            <a:ext cx="589608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13960" y="544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ailing w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4_06eSoCalSumTemps_L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4_06fMountainAndRainfall_L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4_06fMountainAndRainfall_U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2_03TreeWaterFlow_3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4_07bOceanicZones_L.jpg"/>
          <p:cNvPicPr/>
          <p:nvPr/>
        </p:nvPicPr>
        <p:blipFill>
          <a:blip r:embed="rId1"/>
          <a:stretch/>
        </p:blipFill>
        <p:spPr>
          <a:xfrm>
            <a:off x="1357200" y="571680"/>
            <a:ext cx="64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4_09TerrestrialBiomesMap_L.jpg"/>
          <p:cNvPicPr/>
          <p:nvPr/>
        </p:nvPicPr>
        <p:blipFill>
          <a:blip r:embed="rId1"/>
          <a:stretch/>
        </p:blipFill>
        <p:spPr>
          <a:xfrm>
            <a:off x="762120" y="12574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34_10TropicalRainForest_CNL.jpg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880920" y="6171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Rain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4_12Desert_CNL.jpg"/>
          <p:cNvPicPr/>
          <p:nvPr/>
        </p:nvPicPr>
        <p:blipFill>
          <a:blip r:embed="rId1"/>
          <a:stretch/>
        </p:blipFill>
        <p:spPr>
          <a:xfrm>
            <a:off x="762120" y="14572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4075560" y="685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4_13Chaparral_CNL.jpg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488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124640" y="3580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ar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4_14TemperateGrassland_CNL.jpg"/>
          <p:cNvPicPr/>
          <p:nvPr/>
        </p:nvPicPr>
        <p:blipFill>
          <a:blip r:embed="rId1"/>
          <a:stretch/>
        </p:blipFill>
        <p:spPr>
          <a:xfrm>
            <a:off x="762120" y="1562040"/>
            <a:ext cx="761976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165120" y="1142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Grass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4_11Savanna_CNL.jpg"/>
          <p:cNvPicPr/>
          <p:nvPr/>
        </p:nvPicPr>
        <p:blipFill>
          <a:blip r:embed="rId1"/>
          <a:stretch/>
        </p:blipFill>
        <p:spPr>
          <a:xfrm>
            <a:off x="762120" y="20336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32080" y="49896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an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34_15TemperateForest_CNL.jpg"/>
          <p:cNvPicPr/>
          <p:nvPr/>
        </p:nvPicPr>
        <p:blipFill>
          <a:blip r:embed="rId1"/>
          <a:stretch/>
        </p:blipFill>
        <p:spPr>
          <a:xfrm>
            <a:off x="762120" y="105732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62200" y="6019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26040" y="5790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iferous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34_16ConiferousForest_CNL.jpg"/>
          <p:cNvPicPr/>
          <p:nvPr/>
        </p:nvPicPr>
        <p:blipFill>
          <a:blip r:embed="rId1"/>
          <a:stretch/>
        </p:blipFill>
        <p:spPr>
          <a:xfrm>
            <a:off x="1295280" y="1905120"/>
            <a:ext cx="76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4_17Tundra_CNL.jpg"/>
          <p:cNvPicPr/>
          <p:nvPr/>
        </p:nvPicPr>
        <p:blipFill>
          <a:blip r:embed="rId1"/>
          <a:stretch/>
        </p:blipFill>
        <p:spPr>
          <a:xfrm>
            <a:off x="762120" y="1495440"/>
            <a:ext cx="7619760" cy="38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2000" y="5675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d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2_04GuardCellsStomata_L.jpg"/>
          <p:cNvPicPr/>
          <p:nvPr/>
        </p:nvPicPr>
        <p:blipFill>
          <a:blip r:embed="rId1"/>
          <a:stretch/>
        </p:blipFill>
        <p:spPr>
          <a:xfrm>
            <a:off x="762120" y="2090880"/>
            <a:ext cx="7619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34_UN700SolarRadiation_L.jpg"/>
          <p:cNvPicPr/>
          <p:nvPr/>
        </p:nvPicPr>
        <p:blipFill>
          <a:blip r:embed="rId1"/>
          <a:stretch/>
        </p:blipFill>
        <p:spPr>
          <a:xfrm>
            <a:off x="1752480" y="590400"/>
            <a:ext cx="5639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34_UN700EarthsOrbit_U.jpg"/>
          <p:cNvPicPr/>
          <p:nvPr/>
        </p:nvPicPr>
        <p:blipFill>
          <a:blip r:embed="rId1"/>
          <a:stretch/>
        </p:blipFill>
        <p:spPr>
          <a:xfrm>
            <a:off x="852480" y="581040"/>
            <a:ext cx="7439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7_02aCompetExclusion_CL.jpg"/>
          <p:cNvPicPr/>
          <p:nvPr/>
        </p:nvPicPr>
        <p:blipFill>
          <a:blip r:embed="rId1"/>
          <a:stretch/>
        </p:blipFill>
        <p:spPr>
          <a:xfrm>
            <a:off x="762120" y="1514520"/>
            <a:ext cx="7619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37_02bResourcePartition_CL.jpg"/>
          <p:cNvPicPr/>
          <p:nvPr/>
        </p:nvPicPr>
        <p:blipFill>
          <a:blip r:embed="rId1"/>
          <a:stretch/>
        </p:blipFill>
        <p:spPr>
          <a:xfrm>
            <a:off x="762120" y="1486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7_09FoodChains_L.jpg"/>
          <p:cNvPicPr/>
          <p:nvPr/>
        </p:nvPicPr>
        <p:blipFill>
          <a:blip r:embed="rId1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7_10FoodWeb_L.jpg"/>
          <p:cNvPicPr/>
          <p:nvPr/>
        </p:nvPicPr>
        <p:blipFill>
          <a:blip r:embed="rId1"/>
          <a:stretch/>
        </p:blipFill>
        <p:spPr>
          <a:xfrm>
            <a:off x="2147760" y="571680"/>
            <a:ext cx="484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7_11TerrariumEcosystem_L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7_12EcosystemNPP_L.jpg"/>
          <p:cNvPicPr/>
          <p:nvPr/>
        </p:nvPicPr>
        <p:blipFill>
          <a:blip r:embed="rId1"/>
          <a:stretch/>
        </p:blipFill>
        <p:spPr>
          <a:xfrm>
            <a:off x="762120" y="7239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7_13ProductionPyramid_L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37_14EatMeatLuxury_L.jpg"/>
          <p:cNvPicPr/>
          <p:nvPr/>
        </p:nvPicPr>
        <p:blipFill>
          <a:blip r:embed="rId1"/>
          <a:stretch/>
        </p:blipFill>
        <p:spPr>
          <a:xfrm>
            <a:off x="762120" y="1738440"/>
            <a:ext cx="76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2_05bPressFlowSourceSink_U.jpg"/>
          <p:cNvPicPr/>
          <p:nvPr/>
        </p:nvPicPr>
        <p:blipFill>
          <a:blip r:embed="rId1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37_15NutrientCycling_L.jpg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7_16GlobalWater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7_17CarbonCycle_L.jpg"/>
          <p:cNvPicPr/>
          <p:nvPr/>
        </p:nvPicPr>
        <p:blipFill>
          <a:blip r:embed="rId1"/>
          <a:stretch/>
        </p:blipFill>
        <p:spPr>
          <a:xfrm>
            <a:off x="1600200" y="57168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_17CarbonCycle_U.jpg"/>
          <p:cNvPicPr/>
          <p:nvPr/>
        </p:nvPicPr>
        <p:blipFill>
          <a:blip r:embed="rId1"/>
          <a:stretch/>
        </p:blipFill>
        <p:spPr>
          <a:xfrm>
            <a:off x="1604880" y="571680"/>
            <a:ext cx="593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37_18Nitrogen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37_19PhosphorusCycle_L.jpg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_UN762EcosystemCycling_L.jpg"/>
          <p:cNvPicPr/>
          <p:nvPr/>
        </p:nvPicPr>
        <p:blipFill>
          <a:blip r:embed="rId1"/>
          <a:stretch/>
        </p:blipFill>
        <p:spPr>
          <a:xfrm>
            <a:off x="762120" y="129060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7_UN762ConceptMap_L.jpg"/>
          <p:cNvPicPr/>
          <p:nvPr/>
        </p:nvPicPr>
        <p:blipFill>
          <a:blip r:embed="rId1"/>
          <a:stretch/>
        </p:blipFill>
        <p:spPr>
          <a:xfrm>
            <a:off x="1595520" y="571680"/>
            <a:ext cx="5952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_05cAphidPhloemSap_CL.jp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2_06HydroponicCulture_L.jpg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2_08cCationExchange_L.jpg"/>
          <p:cNvPicPr/>
          <p:nvPr/>
        </p:nvPicPr>
        <p:blipFill>
          <a:blip r:embed="rId1"/>
          <a:stretch/>
        </p:blipFill>
        <p:spPr>
          <a:xfrm>
            <a:off x="1628640" y="571680"/>
            <a:ext cx="588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_13NitrogenFixation_L.jpg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_UN660ConceptMap_L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7:19Z</dcterms:created>
  <dc:creator>Daniel Church</dc:creator>
  <dc:description/>
  <dc:language>en-US</dc:language>
  <cp:lastModifiedBy>Daniel Church</cp:lastModifiedBy>
  <dcterms:modified xsi:type="dcterms:W3CDTF">2008-07-24T18:17:39Z</dcterms:modified>
  <cp:revision>1</cp:revision>
  <dc:subject/>
  <dc:title>Slide 1</dc:title>
</cp:coreProperties>
</file>