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B3F2-79A2-4360-9AC2-8A9B60EF9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5467-FD20-4E0F-917B-2AA97244A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7794-E6E3-4246-8260-E2A8AEF6D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B1DB-02AE-40E2-823C-6DECFF059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D8FF-D697-46AF-8873-BF0343FFF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D7C5-F5EC-4C04-8CC5-48DD832EA1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141A-2F80-4D2D-8131-06A401336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9FA8-43D3-44F3-9029-147CE63F9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008B-B750-4C27-A9D5-43B9593EBF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6CE1-FB6B-4302-92A2-5CD62B6C2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38D7-2786-48EE-B34C-2C0242494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A290-CEF5-46A7-B3FF-7F2F8BAF9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75EB-386C-40A5-A58D-0F92EFFB1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70A9-2048-4F60-A37F-288295D7B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C452-F67A-49A9-BF32-1CDA2E245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D3FC-92D7-4820-81DC-003204F13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ECC2-622D-4F8C-90AB-B1F688563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15CF-750E-42F7-A213-BCA50A4C5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DFE4-065E-456A-8327-027002A82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9B28-BBBA-42E3-A4F4-5E2B6D2FC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5A52-B0A3-4BFD-B850-F014FA633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F5B6-D708-4DCB-B203-8C5880F75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9603-5ECD-4F9C-BA6D-FF8967FBA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565E-B461-44F7-B33C-9603EACCC6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C0F2-AAAA-4B33-91A5-C9A912266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5DC8-A813-41E7-A6F1-4C07D1AEA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63EC-8B5E-4359-81F7-7F0BF987E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2586-030E-437F-9700-847210A3D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7453-9A46-4846-A2D0-27625A5B9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2DC0-9279-4ADD-9AC6-E8735D9FB9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CE56-52A4-454E-8C05-F91DC9359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27FB-B6E4-4E3C-A6F5-21043749B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881D-148C-4D7E-808C-29D1706B5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EC50-ADFB-4959-A652-16C102A35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4E35-61FE-439A-A39D-5135BB2F3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B638-2190-48BE-B1E3-8A810B37B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190C-83A9-4A5F-B371-0F0211059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F59A-48ED-4E71-B791-92121ECE7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DAD6-71FA-4436-9750-5B849F718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4654-1364-4BC2-90E9-C3CD50C5DA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A155-DD76-411B-849F-7FB5019AC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8D64-A98D-4DBB-987A-BF597D764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B502-D5D4-48AB-97BD-7AAD7FCA9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DF01-027E-4DFB-9FBE-AF6F9FF9B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DCA4-7FB2-4C1B-8F04-91684C15B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6E70-2E35-422E-B6DE-5EE4D7DE4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FF9D-988A-4F30-AB53-790E3577A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8E74-BE42-4A3B-991C-5C5FC2B9B4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1397-E8E1-495E-85B1-696EEBAF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B192-64AA-4009-8AAD-F7A71F81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10FB-61DD-4E56-A0B5-D007C041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2CF-8D1F-4487-B780-64CC85E6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39B-1E36-4DFD-8CA0-F04DF0F4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FFCF-DC1D-4293-B09D-88B0C84D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9C95-ADFD-4B00-9F0B-7C516D0B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4E46-A55E-4244-BAEB-11FD5F0A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210-0107-4F23-BA24-BEBDE1DD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743-7727-4E2C-9108-46044B59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A3F2-F8D8-495F-8F22-86829418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A3F8-DE7D-4600-A3A9-0BB8A883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2BF6-F7BD-4730-94AA-B491B79E1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32_03TreeWaterFlow_2_L.jpg"/>
          <p:cNvPicPr/>
          <p:nvPr/>
        </p:nvPicPr>
        <p:blipFill>
          <a:blip r:embed="rId1"/>
          <a:stretch/>
        </p:blipFill>
        <p:spPr>
          <a:xfrm>
            <a:off x="1566720" y="571680"/>
            <a:ext cx="6010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32_UN660NitrogenUptake_L.jpg"/>
          <p:cNvPicPr/>
          <p:nvPr/>
        </p:nvPicPr>
        <p:blipFill>
          <a:blip r:embed="rId1"/>
          <a:stretch/>
        </p:blipFill>
        <p:spPr>
          <a:xfrm>
            <a:off x="762120" y="1509840"/>
            <a:ext cx="76197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32_UN661TranspirationRate_T.jpg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32_UN660NutrientTransport_L.jpg"/>
          <p:cNvPicPr/>
          <p:nvPr/>
        </p:nvPicPr>
        <p:blipFill>
          <a:blip r:embed="rId1"/>
          <a:stretch/>
        </p:blipFill>
        <p:spPr>
          <a:xfrm>
            <a:off x="762120" y="1004760"/>
            <a:ext cx="761976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34_06aSolarRadLatitude_L.jpg"/>
          <p:cNvPicPr/>
          <p:nvPr/>
        </p:nvPicPr>
        <p:blipFill>
          <a:blip r:embed="rId1"/>
          <a:stretch/>
        </p:blipFill>
        <p:spPr>
          <a:xfrm>
            <a:off x="800280" y="590400"/>
            <a:ext cx="754380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34_06bTiltAndSeason_L.jpg"/>
          <p:cNvPicPr/>
          <p:nvPr/>
        </p:nvPicPr>
        <p:blipFill>
          <a:blip r:embed="rId1"/>
          <a:stretch/>
        </p:blipFill>
        <p:spPr>
          <a:xfrm>
            <a:off x="790560" y="571680"/>
            <a:ext cx="7562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34_06cWindRainCause_L.jpg"/>
          <p:cNvPicPr/>
          <p:nvPr/>
        </p:nvPicPr>
        <p:blipFill>
          <a:blip r:embed="rId1"/>
          <a:stretch/>
        </p:blipFill>
        <p:spPr>
          <a:xfrm>
            <a:off x="762120" y="861840"/>
            <a:ext cx="761976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34_06dPrevailingWind_L.jpg"/>
          <p:cNvPicPr/>
          <p:nvPr/>
        </p:nvPicPr>
        <p:blipFill>
          <a:blip r:embed="rId1"/>
          <a:stretch/>
        </p:blipFill>
        <p:spPr>
          <a:xfrm>
            <a:off x="1623960" y="571680"/>
            <a:ext cx="589608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813960" y="544680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vailing wi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34_06eSoCalSumTemps_L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34_06fMountainAndRainfall_L.jpg"/>
          <p:cNvPicPr/>
          <p:nvPr/>
        </p:nvPicPr>
        <p:blipFill>
          <a:blip r:embed="rId1"/>
          <a:stretch/>
        </p:blipFill>
        <p:spPr>
          <a:xfrm>
            <a:off x="762120" y="1343160"/>
            <a:ext cx="761976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34_06fMountainAndRainfall_U.jpg"/>
          <p:cNvPicPr/>
          <p:nvPr/>
        </p:nvPicPr>
        <p:blipFill>
          <a:blip r:embed="rId1"/>
          <a:stretch/>
        </p:blipFill>
        <p:spPr>
          <a:xfrm>
            <a:off x="762120" y="1343160"/>
            <a:ext cx="761976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32_03TreeWaterFlow_3_L.jpg"/>
          <p:cNvPicPr/>
          <p:nvPr/>
        </p:nvPicPr>
        <p:blipFill>
          <a:blip r:embed="rId1"/>
          <a:stretch/>
        </p:blipFill>
        <p:spPr>
          <a:xfrm>
            <a:off x="1566720" y="571680"/>
            <a:ext cx="6010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34_07bOceanicZones_L.jpg"/>
          <p:cNvPicPr/>
          <p:nvPr/>
        </p:nvPicPr>
        <p:blipFill>
          <a:blip r:embed="rId1"/>
          <a:stretch/>
        </p:blipFill>
        <p:spPr>
          <a:xfrm>
            <a:off x="1357200" y="571680"/>
            <a:ext cx="64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34_09TerrestrialBiomesMap_L.jpg"/>
          <p:cNvPicPr/>
          <p:nvPr/>
        </p:nvPicPr>
        <p:blipFill>
          <a:blip r:embed="rId1"/>
          <a:stretch/>
        </p:blipFill>
        <p:spPr>
          <a:xfrm>
            <a:off x="762120" y="1257480"/>
            <a:ext cx="7619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34_10TropicalRainForest_CNL.jpg"/>
          <p:cNvPicPr/>
          <p:nvPr/>
        </p:nvPicPr>
        <p:blipFill>
          <a:blip r:embed="rId1"/>
          <a:stretch/>
        </p:blipFill>
        <p:spPr>
          <a:xfrm>
            <a:off x="762120" y="1747800"/>
            <a:ext cx="7619760" cy="33624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880920" y="617148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opical Rain Fore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34_12Desert_CNL.jpg"/>
          <p:cNvPicPr/>
          <p:nvPr/>
        </p:nvPicPr>
        <p:blipFill>
          <a:blip r:embed="rId1"/>
          <a:stretch/>
        </p:blipFill>
        <p:spPr>
          <a:xfrm>
            <a:off x="762120" y="1457280"/>
            <a:ext cx="7619760" cy="39434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4075560" y="68508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34_13Chaparral_CNL.jpg"/>
          <p:cNvPicPr/>
          <p:nvPr/>
        </p:nvPicPr>
        <p:blipFill>
          <a:blip r:embed="rId1"/>
          <a:stretch/>
        </p:blipFill>
        <p:spPr>
          <a:xfrm>
            <a:off x="762120" y="985680"/>
            <a:ext cx="7619760" cy="4886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1124640" y="358056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arr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34_14TemperateGrassland_CNL.jpg"/>
          <p:cNvPicPr/>
          <p:nvPr/>
        </p:nvPicPr>
        <p:blipFill>
          <a:blip r:embed="rId1"/>
          <a:stretch/>
        </p:blipFill>
        <p:spPr>
          <a:xfrm>
            <a:off x="762120" y="1562040"/>
            <a:ext cx="7619760" cy="3733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3165120" y="114228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mperate Grassl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34_11Savanna_CNL.jpg"/>
          <p:cNvPicPr/>
          <p:nvPr/>
        </p:nvPicPr>
        <p:blipFill>
          <a:blip r:embed="rId1"/>
          <a:stretch/>
        </p:blipFill>
        <p:spPr>
          <a:xfrm>
            <a:off x="762120" y="2033640"/>
            <a:ext cx="7619760" cy="2790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1432080" y="498960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vann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34_15TemperateForest_CNL.jpg"/>
          <p:cNvPicPr/>
          <p:nvPr/>
        </p:nvPicPr>
        <p:blipFill>
          <a:blip r:embed="rId1"/>
          <a:stretch/>
        </p:blipFill>
        <p:spPr>
          <a:xfrm>
            <a:off x="762120" y="1057320"/>
            <a:ext cx="7619760" cy="4743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1762200" y="60192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mperate Fore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26040" y="57906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iferous Fore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34_16ConiferousForest_CNL.jpg"/>
          <p:cNvPicPr/>
          <p:nvPr/>
        </p:nvPicPr>
        <p:blipFill>
          <a:blip r:embed="rId1"/>
          <a:stretch/>
        </p:blipFill>
        <p:spPr>
          <a:xfrm>
            <a:off x="1295280" y="1905120"/>
            <a:ext cx="76201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34_17Tundra_CNL.jpg"/>
          <p:cNvPicPr/>
          <p:nvPr/>
        </p:nvPicPr>
        <p:blipFill>
          <a:blip r:embed="rId1"/>
          <a:stretch/>
        </p:blipFill>
        <p:spPr>
          <a:xfrm>
            <a:off x="762120" y="1495440"/>
            <a:ext cx="7619760" cy="3867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242000" y="56754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ndr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32_04GuardCellsStomata_L.jpg"/>
          <p:cNvPicPr/>
          <p:nvPr/>
        </p:nvPicPr>
        <p:blipFill>
          <a:blip r:embed="rId1"/>
          <a:stretch/>
        </p:blipFill>
        <p:spPr>
          <a:xfrm>
            <a:off x="762120" y="2090880"/>
            <a:ext cx="761976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34_UN700SolarRadiation_L.jpg"/>
          <p:cNvPicPr/>
          <p:nvPr/>
        </p:nvPicPr>
        <p:blipFill>
          <a:blip r:embed="rId1"/>
          <a:stretch/>
        </p:blipFill>
        <p:spPr>
          <a:xfrm>
            <a:off x="1752480" y="590400"/>
            <a:ext cx="563904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9" descr="34_UN700EarthsOrbit_U.jpg"/>
          <p:cNvPicPr/>
          <p:nvPr/>
        </p:nvPicPr>
        <p:blipFill>
          <a:blip r:embed="rId1"/>
          <a:stretch/>
        </p:blipFill>
        <p:spPr>
          <a:xfrm>
            <a:off x="852480" y="581040"/>
            <a:ext cx="743904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37_02aCompetExclusion_CL.jpg"/>
          <p:cNvPicPr/>
          <p:nvPr/>
        </p:nvPicPr>
        <p:blipFill>
          <a:blip r:embed="rId1"/>
          <a:stretch/>
        </p:blipFill>
        <p:spPr>
          <a:xfrm>
            <a:off x="762120" y="1514520"/>
            <a:ext cx="76197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37_02bResourcePartition_CL.jpg"/>
          <p:cNvPicPr/>
          <p:nvPr/>
        </p:nvPicPr>
        <p:blipFill>
          <a:blip r:embed="rId1"/>
          <a:stretch/>
        </p:blipFill>
        <p:spPr>
          <a:xfrm>
            <a:off x="762120" y="1486080"/>
            <a:ext cx="7619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37_09FoodChains_L.jpg"/>
          <p:cNvPicPr/>
          <p:nvPr/>
        </p:nvPicPr>
        <p:blipFill>
          <a:blip r:embed="rId1"/>
          <a:stretch/>
        </p:blipFill>
        <p:spPr>
          <a:xfrm>
            <a:off x="2624040" y="571680"/>
            <a:ext cx="389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37_10FoodWeb_L.jpg"/>
          <p:cNvPicPr/>
          <p:nvPr/>
        </p:nvPicPr>
        <p:blipFill>
          <a:blip r:embed="rId1"/>
          <a:stretch/>
        </p:blipFill>
        <p:spPr>
          <a:xfrm>
            <a:off x="2147760" y="571680"/>
            <a:ext cx="4848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37_11TerrariumEcosystem_L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37_12EcosystemNPP_L.jpg"/>
          <p:cNvPicPr/>
          <p:nvPr/>
        </p:nvPicPr>
        <p:blipFill>
          <a:blip r:embed="rId1"/>
          <a:stretch/>
        </p:blipFill>
        <p:spPr>
          <a:xfrm>
            <a:off x="762120" y="723960"/>
            <a:ext cx="7619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37_13ProductionPyramid_L.jpg"/>
          <p:cNvPicPr/>
          <p:nvPr/>
        </p:nvPicPr>
        <p:blipFill>
          <a:blip r:embed="rId1"/>
          <a:stretch/>
        </p:blipFill>
        <p:spPr>
          <a:xfrm>
            <a:off x="762120" y="880920"/>
            <a:ext cx="761976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37_14EatMeatLuxury_L.jpg"/>
          <p:cNvPicPr/>
          <p:nvPr/>
        </p:nvPicPr>
        <p:blipFill>
          <a:blip r:embed="rId1"/>
          <a:stretch/>
        </p:blipFill>
        <p:spPr>
          <a:xfrm>
            <a:off x="762120" y="1738440"/>
            <a:ext cx="76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32_05bPressFlowSourceSink_U.jpg"/>
          <p:cNvPicPr/>
          <p:nvPr/>
        </p:nvPicPr>
        <p:blipFill>
          <a:blip r:embed="rId1"/>
          <a:stretch/>
        </p:blipFill>
        <p:spPr>
          <a:xfrm>
            <a:off x="2362320" y="571680"/>
            <a:ext cx="4419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37_15NutrientCycling_L.jpg"/>
          <p:cNvPicPr/>
          <p:nvPr/>
        </p:nvPicPr>
        <p:blipFill>
          <a:blip r:embed="rId1"/>
          <a:stretch/>
        </p:blipFill>
        <p:spPr>
          <a:xfrm>
            <a:off x="1471680" y="571680"/>
            <a:ext cx="6200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37_16GlobalWaterCycle_L.jpg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37_17CarbonCycle_L.jpg"/>
          <p:cNvPicPr/>
          <p:nvPr/>
        </p:nvPicPr>
        <p:blipFill>
          <a:blip r:embed="rId1"/>
          <a:stretch/>
        </p:blipFill>
        <p:spPr>
          <a:xfrm>
            <a:off x="1600200" y="571680"/>
            <a:ext cx="5943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37_17CarbonCycle_U.jpg"/>
          <p:cNvPicPr/>
          <p:nvPr/>
        </p:nvPicPr>
        <p:blipFill>
          <a:blip r:embed="rId1"/>
          <a:stretch/>
        </p:blipFill>
        <p:spPr>
          <a:xfrm>
            <a:off x="1604880" y="571680"/>
            <a:ext cx="593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37_18NitrogenCycle_L.jpg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37_19PhosphorusCycle_L.jpg"/>
          <p:cNvPicPr/>
          <p:nvPr/>
        </p:nvPicPr>
        <p:blipFill>
          <a:blip r:embed="rId1"/>
          <a:stretch/>
        </p:blipFill>
        <p:spPr>
          <a:xfrm>
            <a:off x="1590840" y="571680"/>
            <a:ext cx="5962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37_UN762EcosystemCycling_L.jpg"/>
          <p:cNvPicPr/>
          <p:nvPr/>
        </p:nvPicPr>
        <p:blipFill>
          <a:blip r:embed="rId1"/>
          <a:stretch/>
        </p:blipFill>
        <p:spPr>
          <a:xfrm>
            <a:off x="762120" y="1290600"/>
            <a:ext cx="76197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37_UN762ConceptMap_L.jpg"/>
          <p:cNvPicPr/>
          <p:nvPr/>
        </p:nvPicPr>
        <p:blipFill>
          <a:blip r:embed="rId1"/>
          <a:stretch/>
        </p:blipFill>
        <p:spPr>
          <a:xfrm>
            <a:off x="1595520" y="571680"/>
            <a:ext cx="5952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32_05cAphidPhloemSap_CL.jpg"/>
          <p:cNvPicPr/>
          <p:nvPr/>
        </p:nvPicPr>
        <p:blipFill>
          <a:blip r:embed="rId1"/>
          <a:stretch/>
        </p:blipFill>
        <p:spPr>
          <a:xfrm>
            <a:off x="762120" y="1595520"/>
            <a:ext cx="76197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32_06HydroponicCulture_L.jpg"/>
          <p:cNvPicPr/>
          <p:nvPr/>
        </p:nvPicPr>
        <p:blipFill>
          <a:blip r:embed="rId1"/>
          <a:stretch/>
        </p:blipFill>
        <p:spPr>
          <a:xfrm>
            <a:off x="2038320" y="571680"/>
            <a:ext cx="5067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32_08cCationExchange_L.jpg"/>
          <p:cNvPicPr/>
          <p:nvPr/>
        </p:nvPicPr>
        <p:blipFill>
          <a:blip r:embed="rId1"/>
          <a:stretch/>
        </p:blipFill>
        <p:spPr>
          <a:xfrm>
            <a:off x="1628640" y="571680"/>
            <a:ext cx="5886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32_13NitrogenFixation_L.jpg"/>
          <p:cNvPicPr/>
          <p:nvPr/>
        </p:nvPicPr>
        <p:blipFill>
          <a:blip r:embed="rId1"/>
          <a:stretch/>
        </p:blipFill>
        <p:spPr>
          <a:xfrm>
            <a:off x="771480" y="1905120"/>
            <a:ext cx="7601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32_UN660ConceptMap_L.jpg"/>
          <p:cNvPicPr/>
          <p:nvPr/>
        </p:nvPicPr>
        <p:blipFill>
          <a:blip r:embed="rId1"/>
          <a:stretch/>
        </p:blipFill>
        <p:spPr>
          <a:xfrm>
            <a:off x="762120" y="695160"/>
            <a:ext cx="761976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8:17:19Z</dcterms:created>
  <dc:creator>Daniel Church</dc:creator>
  <dc:description/>
  <dc:language>en-US</dc:language>
  <cp:lastModifiedBy>Daniel Church</cp:lastModifiedBy>
  <dcterms:modified xsi:type="dcterms:W3CDTF">2008-07-24T18:17:39Z</dcterms:modified>
  <cp:revision>1</cp:revision>
  <dc:subject/>
  <dc:title>Slide 1</dc:title>
</cp:coreProperties>
</file>