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E8F7-9F38-49F0-91B0-2BB0D2981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219A-2647-4A61-B09B-B953713C3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967C-70FF-484B-9873-7F8AD2D0C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217C-3725-41D0-84C5-DA27CED35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CDDD-F50A-4996-9369-871B30151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D2DA-1187-438C-85F4-774FEF7A41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D273-C3C8-4E63-A97B-9852E4BEA4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9F85-246C-467A-849B-C1B46771C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667E-53D4-4C4D-BD0E-407712E5E4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367B-DC1D-4484-9744-75657579E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2E26-0F93-433C-A75D-5F3CBA1CAE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F65D-594C-43E4-A712-B192BDBF4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A269-EE88-4D68-BB4A-B689A8DEC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9E9D-1609-4A8F-B271-BD53505D5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553F-C5E4-4278-9393-156BD0B491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2368-3129-4F27-9D78-BEF2E8BB8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0CA5-3F66-4E99-AEF1-826E36C05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992D-C9BA-4D6A-A7C8-BB91B8ADA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C0E6-15A1-4A71-97F7-BC505B63E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5628-2C52-4D5F-9EC2-59CF5DE76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5E05-DB8D-4E37-BDAE-5C0507F34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6425-5C0B-4F46-804B-0C52B8B84E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F51B-FC34-4170-98FA-86786F2AEC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BFF9-2F43-4F66-9A0F-B4EEC87C2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8FE8-FF37-4BF0-B81D-C8CEBC8DDF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E1A0-13B5-4B6E-AC29-FB1DBE6560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EE8A-0411-4253-AB1E-736725628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C8E9-F613-4E42-9761-1F8983070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7782-ED47-49FA-826E-8EB556C4FD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D527-1E52-4256-97B9-906A2AB0D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B33D-107D-4EA2-AD83-3D749D5B12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BED8-3917-4E64-8DCD-BD97BE7F1D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8848-B64A-44BD-882B-F9DA7F3E1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913B-C603-4FC8-B12E-9AB60FAF12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445A-D56C-469C-9F9E-253BDE515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D63E-CEE4-4B77-B659-E84DFC3186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413A-3C9C-4A76-BEE4-AEE8D9D4C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C54E-1D98-4A88-9C04-CAA73DE76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29FF-2D88-46AE-9F15-8B1B6559E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1BF0-8411-48EC-9D33-2E19A17522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62E0-307D-48A6-A2D0-13252FA4C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FD04-08A4-487C-A9E0-529A2E19E9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F904-1421-4FF0-9F93-F31EAE591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87B9-7951-419E-82EF-477497FE3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2791-5213-4390-AB9C-39AF482AB4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279F-54F9-4ABC-96AA-A8DAE8D7F4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64EC-B0B7-4EDD-9549-D32C7EA01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EE80-0302-4954-9F17-2E25B14DD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462D-129D-4D5B-9171-8E3CC2A3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8934-21B1-473C-98E8-B5D90403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7132-D6B0-4119-B94A-C741AC5D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58FB-79CE-4F74-B0EA-FCB939F3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5921-8669-484A-9093-682AE184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06CF-F1A8-4E57-9A88-6DC95565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67A0-649A-46C6-851A-A75D20DF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4666-29C0-4713-B23E-358267FF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9082-0B3B-4B11-A60D-FAD82C2E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C829-C4F9-45E4-A947-9BEA42DC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B3EB-14AE-4496-A270-AE076FE5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E4C2-3D40-43D3-800E-00A3A1B0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1E2F-9906-4390-82B8-8F81FC063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32_03TreeWaterFlow_2_L.jpg"/>
          <p:cNvPicPr/>
          <p:nvPr/>
        </p:nvPicPr>
        <p:blipFill>
          <a:blip r:embed="rId1"/>
          <a:stretch/>
        </p:blipFill>
        <p:spPr>
          <a:xfrm>
            <a:off x="1566720" y="571680"/>
            <a:ext cx="6010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32_UN660NitrogenUptake_L.jpg"/>
          <p:cNvPicPr/>
          <p:nvPr/>
        </p:nvPicPr>
        <p:blipFill>
          <a:blip r:embed="rId1"/>
          <a:stretch/>
        </p:blipFill>
        <p:spPr>
          <a:xfrm>
            <a:off x="762120" y="1509840"/>
            <a:ext cx="761976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32_UN661TranspirationRate_T.jpg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32_UN660NutrientTransport_L.jpg"/>
          <p:cNvPicPr/>
          <p:nvPr/>
        </p:nvPicPr>
        <p:blipFill>
          <a:blip r:embed="rId1"/>
          <a:stretch/>
        </p:blipFill>
        <p:spPr>
          <a:xfrm>
            <a:off x="762120" y="1004760"/>
            <a:ext cx="761976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34_06aSolarRadLatitude_L.jpg"/>
          <p:cNvPicPr/>
          <p:nvPr/>
        </p:nvPicPr>
        <p:blipFill>
          <a:blip r:embed="rId1"/>
          <a:stretch/>
        </p:blipFill>
        <p:spPr>
          <a:xfrm>
            <a:off x="800280" y="590400"/>
            <a:ext cx="754380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34_06bTiltAndSeason_L.jpg"/>
          <p:cNvPicPr/>
          <p:nvPr/>
        </p:nvPicPr>
        <p:blipFill>
          <a:blip r:embed="rId1"/>
          <a:stretch/>
        </p:blipFill>
        <p:spPr>
          <a:xfrm>
            <a:off x="790560" y="571680"/>
            <a:ext cx="7562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34_06cWindRainCause_L.jpg"/>
          <p:cNvPicPr/>
          <p:nvPr/>
        </p:nvPicPr>
        <p:blipFill>
          <a:blip r:embed="rId1"/>
          <a:stretch/>
        </p:blipFill>
        <p:spPr>
          <a:xfrm>
            <a:off x="762120" y="861840"/>
            <a:ext cx="761976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34_06dPrevailingWind_L.jpg"/>
          <p:cNvPicPr/>
          <p:nvPr/>
        </p:nvPicPr>
        <p:blipFill>
          <a:blip r:embed="rId1"/>
          <a:stretch/>
        </p:blipFill>
        <p:spPr>
          <a:xfrm>
            <a:off x="1623960" y="571680"/>
            <a:ext cx="589608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813960" y="5446800"/>
            <a:ext cx="16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vailing wi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34_06eSoCalSumTemps_L.jpg"/>
          <p:cNvPicPr/>
          <p:nvPr/>
        </p:nvPicPr>
        <p:blipFill>
          <a:blip r:embed="rId1"/>
          <a:stretch/>
        </p:blipFill>
        <p:spPr>
          <a:xfrm>
            <a:off x="766800" y="571680"/>
            <a:ext cx="7610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34_06fMountainAndRainfall_L.jpg"/>
          <p:cNvPicPr/>
          <p:nvPr/>
        </p:nvPicPr>
        <p:blipFill>
          <a:blip r:embed="rId1"/>
          <a:stretch/>
        </p:blipFill>
        <p:spPr>
          <a:xfrm>
            <a:off x="762120" y="1343160"/>
            <a:ext cx="761976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34_06fMountainAndRainfall_U.jpg"/>
          <p:cNvPicPr/>
          <p:nvPr/>
        </p:nvPicPr>
        <p:blipFill>
          <a:blip r:embed="rId1"/>
          <a:stretch/>
        </p:blipFill>
        <p:spPr>
          <a:xfrm>
            <a:off x="762120" y="1343160"/>
            <a:ext cx="761976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32_03TreeWaterFlow_3_L.jpg"/>
          <p:cNvPicPr/>
          <p:nvPr/>
        </p:nvPicPr>
        <p:blipFill>
          <a:blip r:embed="rId1"/>
          <a:stretch/>
        </p:blipFill>
        <p:spPr>
          <a:xfrm>
            <a:off x="1566720" y="571680"/>
            <a:ext cx="6010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34_07bOceanicZones_L.jpg"/>
          <p:cNvPicPr/>
          <p:nvPr/>
        </p:nvPicPr>
        <p:blipFill>
          <a:blip r:embed="rId1"/>
          <a:stretch/>
        </p:blipFill>
        <p:spPr>
          <a:xfrm>
            <a:off x="1357200" y="571680"/>
            <a:ext cx="64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34_09TerrestrialBiomesMap_L.jpg"/>
          <p:cNvPicPr/>
          <p:nvPr/>
        </p:nvPicPr>
        <p:blipFill>
          <a:blip r:embed="rId1"/>
          <a:stretch/>
        </p:blipFill>
        <p:spPr>
          <a:xfrm>
            <a:off x="762120" y="1257480"/>
            <a:ext cx="7619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34_10TropicalRainForest_CNL.jpg"/>
          <p:cNvPicPr/>
          <p:nvPr/>
        </p:nvPicPr>
        <p:blipFill>
          <a:blip r:embed="rId1"/>
          <a:stretch/>
        </p:blipFill>
        <p:spPr>
          <a:xfrm>
            <a:off x="762120" y="1747800"/>
            <a:ext cx="7619760" cy="33624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880920" y="617148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opical Rain Fore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34_12Desert_CNL.jpg"/>
          <p:cNvPicPr/>
          <p:nvPr/>
        </p:nvPicPr>
        <p:blipFill>
          <a:blip r:embed="rId1"/>
          <a:stretch/>
        </p:blipFill>
        <p:spPr>
          <a:xfrm>
            <a:off x="762120" y="1457280"/>
            <a:ext cx="7619760" cy="39434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8"/>
          <p:cNvSpPr/>
          <p:nvPr/>
        </p:nvSpPr>
        <p:spPr>
          <a:xfrm>
            <a:off x="4075560" y="68508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e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34_13Chaparral_CNL.jpg"/>
          <p:cNvPicPr/>
          <p:nvPr/>
        </p:nvPicPr>
        <p:blipFill>
          <a:blip r:embed="rId1"/>
          <a:stretch/>
        </p:blipFill>
        <p:spPr>
          <a:xfrm>
            <a:off x="762120" y="985680"/>
            <a:ext cx="7619760" cy="4886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1124640" y="358056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parr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34_14TemperateGrassland_CNL.jpg"/>
          <p:cNvPicPr/>
          <p:nvPr/>
        </p:nvPicPr>
        <p:blipFill>
          <a:blip r:embed="rId1"/>
          <a:stretch/>
        </p:blipFill>
        <p:spPr>
          <a:xfrm>
            <a:off x="762120" y="1562040"/>
            <a:ext cx="7619760" cy="3733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3165120" y="114228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mperate Grassl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34_11Savanna_CNL.jpg"/>
          <p:cNvPicPr/>
          <p:nvPr/>
        </p:nvPicPr>
        <p:blipFill>
          <a:blip r:embed="rId1"/>
          <a:stretch/>
        </p:blipFill>
        <p:spPr>
          <a:xfrm>
            <a:off x="762120" y="2033640"/>
            <a:ext cx="7619760" cy="2790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1432080" y="4989600"/>
            <a:ext cx="16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vann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34_15TemperateForest_CNL.jpg"/>
          <p:cNvPicPr/>
          <p:nvPr/>
        </p:nvPicPr>
        <p:blipFill>
          <a:blip r:embed="rId1"/>
          <a:stretch/>
        </p:blipFill>
        <p:spPr>
          <a:xfrm>
            <a:off x="762120" y="1057320"/>
            <a:ext cx="7619760" cy="47433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1762200" y="601920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mperate Fore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626040" y="57906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iferous Fore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34_16ConiferousForest_CNL.jpg"/>
          <p:cNvPicPr/>
          <p:nvPr/>
        </p:nvPicPr>
        <p:blipFill>
          <a:blip r:embed="rId1"/>
          <a:stretch/>
        </p:blipFill>
        <p:spPr>
          <a:xfrm>
            <a:off x="1295280" y="1905120"/>
            <a:ext cx="76201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34_17Tundra_CNL.jpg"/>
          <p:cNvPicPr/>
          <p:nvPr/>
        </p:nvPicPr>
        <p:blipFill>
          <a:blip r:embed="rId1"/>
          <a:stretch/>
        </p:blipFill>
        <p:spPr>
          <a:xfrm>
            <a:off x="762120" y="1495440"/>
            <a:ext cx="7619760" cy="3867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1242000" y="56754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ndr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32_04GuardCellsStomata_L.jpg"/>
          <p:cNvPicPr/>
          <p:nvPr/>
        </p:nvPicPr>
        <p:blipFill>
          <a:blip r:embed="rId1"/>
          <a:stretch/>
        </p:blipFill>
        <p:spPr>
          <a:xfrm>
            <a:off x="762120" y="2090880"/>
            <a:ext cx="761976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34_UN700SolarRadiation_L.jpg"/>
          <p:cNvPicPr/>
          <p:nvPr/>
        </p:nvPicPr>
        <p:blipFill>
          <a:blip r:embed="rId1"/>
          <a:stretch/>
        </p:blipFill>
        <p:spPr>
          <a:xfrm>
            <a:off x="1752480" y="590400"/>
            <a:ext cx="563904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9" descr="34_UN700EarthsOrbit_U.jpg"/>
          <p:cNvPicPr/>
          <p:nvPr/>
        </p:nvPicPr>
        <p:blipFill>
          <a:blip r:embed="rId1"/>
          <a:stretch/>
        </p:blipFill>
        <p:spPr>
          <a:xfrm>
            <a:off x="852480" y="581040"/>
            <a:ext cx="743904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37_02aCompetExclusion_CL.jpg"/>
          <p:cNvPicPr/>
          <p:nvPr/>
        </p:nvPicPr>
        <p:blipFill>
          <a:blip r:embed="rId1"/>
          <a:stretch/>
        </p:blipFill>
        <p:spPr>
          <a:xfrm>
            <a:off x="762120" y="1514520"/>
            <a:ext cx="76197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37_02bResourcePartition_CL.jpg"/>
          <p:cNvPicPr/>
          <p:nvPr/>
        </p:nvPicPr>
        <p:blipFill>
          <a:blip r:embed="rId1"/>
          <a:stretch/>
        </p:blipFill>
        <p:spPr>
          <a:xfrm>
            <a:off x="762120" y="1486080"/>
            <a:ext cx="7619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37_09FoodChains_L.jpg"/>
          <p:cNvPicPr/>
          <p:nvPr/>
        </p:nvPicPr>
        <p:blipFill>
          <a:blip r:embed="rId1"/>
          <a:stretch/>
        </p:blipFill>
        <p:spPr>
          <a:xfrm>
            <a:off x="2624040" y="571680"/>
            <a:ext cx="389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37_10FoodWeb_L.jpg"/>
          <p:cNvPicPr/>
          <p:nvPr/>
        </p:nvPicPr>
        <p:blipFill>
          <a:blip r:embed="rId1"/>
          <a:stretch/>
        </p:blipFill>
        <p:spPr>
          <a:xfrm>
            <a:off x="2147760" y="571680"/>
            <a:ext cx="4848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37_11TerrariumEcosystem_L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37_12EcosystemNPP_L.jpg"/>
          <p:cNvPicPr/>
          <p:nvPr/>
        </p:nvPicPr>
        <p:blipFill>
          <a:blip r:embed="rId1"/>
          <a:stretch/>
        </p:blipFill>
        <p:spPr>
          <a:xfrm>
            <a:off x="762120" y="723960"/>
            <a:ext cx="7619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37_13ProductionPyramid_L.jpg"/>
          <p:cNvPicPr/>
          <p:nvPr/>
        </p:nvPicPr>
        <p:blipFill>
          <a:blip r:embed="rId1"/>
          <a:stretch/>
        </p:blipFill>
        <p:spPr>
          <a:xfrm>
            <a:off x="762120" y="880920"/>
            <a:ext cx="761976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37_14EatMeatLuxury_L.jpg"/>
          <p:cNvPicPr/>
          <p:nvPr/>
        </p:nvPicPr>
        <p:blipFill>
          <a:blip r:embed="rId1"/>
          <a:stretch/>
        </p:blipFill>
        <p:spPr>
          <a:xfrm>
            <a:off x="762120" y="1738440"/>
            <a:ext cx="76197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32_05bPressFlowSourceSink_U.jpg"/>
          <p:cNvPicPr/>
          <p:nvPr/>
        </p:nvPicPr>
        <p:blipFill>
          <a:blip r:embed="rId1"/>
          <a:stretch/>
        </p:blipFill>
        <p:spPr>
          <a:xfrm>
            <a:off x="2362320" y="571680"/>
            <a:ext cx="4419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37_15NutrientCycling_L.jpg"/>
          <p:cNvPicPr/>
          <p:nvPr/>
        </p:nvPicPr>
        <p:blipFill>
          <a:blip r:embed="rId1"/>
          <a:stretch/>
        </p:blipFill>
        <p:spPr>
          <a:xfrm>
            <a:off x="1471680" y="571680"/>
            <a:ext cx="6200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37_16GlobalWaterCycle_L.jpg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37_17CarbonCycle_L.jpg"/>
          <p:cNvPicPr/>
          <p:nvPr/>
        </p:nvPicPr>
        <p:blipFill>
          <a:blip r:embed="rId1"/>
          <a:stretch/>
        </p:blipFill>
        <p:spPr>
          <a:xfrm>
            <a:off x="1600200" y="571680"/>
            <a:ext cx="5943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37_17CarbonCycle_U.jpg"/>
          <p:cNvPicPr/>
          <p:nvPr/>
        </p:nvPicPr>
        <p:blipFill>
          <a:blip r:embed="rId1"/>
          <a:stretch/>
        </p:blipFill>
        <p:spPr>
          <a:xfrm>
            <a:off x="1604880" y="571680"/>
            <a:ext cx="5934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37_18NitrogenCycle_L.jpg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37_19PhosphorusCycle_L.jpg"/>
          <p:cNvPicPr/>
          <p:nvPr/>
        </p:nvPicPr>
        <p:blipFill>
          <a:blip r:embed="rId1"/>
          <a:stretch/>
        </p:blipFill>
        <p:spPr>
          <a:xfrm>
            <a:off x="1590840" y="571680"/>
            <a:ext cx="5962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37_UN762EcosystemCycling_L.jpg"/>
          <p:cNvPicPr/>
          <p:nvPr/>
        </p:nvPicPr>
        <p:blipFill>
          <a:blip r:embed="rId1"/>
          <a:stretch/>
        </p:blipFill>
        <p:spPr>
          <a:xfrm>
            <a:off x="762120" y="1290600"/>
            <a:ext cx="76197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37_UN762ConceptMap_L.jpg"/>
          <p:cNvPicPr/>
          <p:nvPr/>
        </p:nvPicPr>
        <p:blipFill>
          <a:blip r:embed="rId1"/>
          <a:stretch/>
        </p:blipFill>
        <p:spPr>
          <a:xfrm>
            <a:off x="1595520" y="571680"/>
            <a:ext cx="5952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32_05cAphidPhloemSap_CL.jpg"/>
          <p:cNvPicPr/>
          <p:nvPr/>
        </p:nvPicPr>
        <p:blipFill>
          <a:blip r:embed="rId1"/>
          <a:stretch/>
        </p:blipFill>
        <p:spPr>
          <a:xfrm>
            <a:off x="762120" y="1595520"/>
            <a:ext cx="761976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32_06HydroponicCulture_L.jpg"/>
          <p:cNvPicPr/>
          <p:nvPr/>
        </p:nvPicPr>
        <p:blipFill>
          <a:blip r:embed="rId1"/>
          <a:stretch/>
        </p:blipFill>
        <p:spPr>
          <a:xfrm>
            <a:off x="2038320" y="571680"/>
            <a:ext cx="5067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32_08cCationExchange_L.jpg"/>
          <p:cNvPicPr/>
          <p:nvPr/>
        </p:nvPicPr>
        <p:blipFill>
          <a:blip r:embed="rId1"/>
          <a:stretch/>
        </p:blipFill>
        <p:spPr>
          <a:xfrm>
            <a:off x="1628640" y="571680"/>
            <a:ext cx="5886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32_13NitrogenFixation_L.jpg"/>
          <p:cNvPicPr/>
          <p:nvPr/>
        </p:nvPicPr>
        <p:blipFill>
          <a:blip r:embed="rId1"/>
          <a:stretch/>
        </p:blipFill>
        <p:spPr>
          <a:xfrm>
            <a:off x="771480" y="1905120"/>
            <a:ext cx="76010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32_UN660ConceptMap_L.jpg"/>
          <p:cNvPicPr/>
          <p:nvPr/>
        </p:nvPicPr>
        <p:blipFill>
          <a:blip r:embed="rId1"/>
          <a:stretch/>
        </p:blipFill>
        <p:spPr>
          <a:xfrm>
            <a:off x="762120" y="695160"/>
            <a:ext cx="761976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18:17:19Z</dcterms:created>
  <dc:creator>Daniel Church</dc:creator>
  <dc:description/>
  <dc:language>en-US</dc:language>
  <cp:lastModifiedBy>Daniel Church</cp:lastModifiedBy>
  <dcterms:modified xsi:type="dcterms:W3CDTF">2008-07-24T18:17:39Z</dcterms:modified>
  <cp:revision>1</cp:revision>
  <dc:subject/>
  <dc:title>Slide 1</dc:title>
</cp:coreProperties>
</file>